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gif" ContentType="image/gif"/>
  <Override PartName="/ppt/media/image11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739E-9E41-4A04-A387-D451CF23C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1A43-5AC0-4DCF-8362-0EFFBA584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5A10-91BE-4562-B8A8-ED75265FC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5B2F-CE5F-43DA-ACAF-906F51FF7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4B3F8-8BAA-4F7F-9C35-6C450A64C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C56A-1839-4AE5-A174-EC7D5CDB6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533A-3160-4C3B-B99E-4D50DDF89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0185-78F4-4DA8-A2BC-74DFA6DB6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160D-8B7B-40A7-9EC2-404BBBC27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5866-64D5-4735-8CBA-0B7B22550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16A2-7A29-4923-A2F6-C48FE6892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82C5-CFFA-4E44-988C-79AFFDBF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9205-6755-485B-8387-08248C1D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974E-1E1C-4E23-91D0-0B395C02E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5B3F-8855-44F4-A5FF-5A94D988E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E2F5-15F5-49D4-9169-51106F40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F86B-33A2-4C89-B069-F89A5411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5BB6-0095-42A7-A2F1-227DAA27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F6E1-9A2A-48AB-A84F-8B91FD292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F4B9-45DE-4923-927B-29406AF1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6272-06EB-4678-80A5-7F94D04D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AB58-4853-424F-83D5-75EB0370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2DDD-663A-4AAA-AB44-F2F33336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6CD9-9BA2-4AAB-B195-5E21EEB29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476360" y="90792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AutoCAD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制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26"/>
          <p:cNvPicPr/>
          <p:nvPr/>
        </p:nvPicPr>
        <p:blipFill>
          <a:blip r:embed="rId1"/>
          <a:stretch/>
        </p:blipFill>
        <p:spPr>
          <a:xfrm>
            <a:off x="1295280" y="1844640"/>
            <a:ext cx="6858000" cy="1116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6"/>
          <p:cNvGrpSpPr/>
          <p:nvPr/>
        </p:nvGrpSpPr>
        <p:grpSpPr>
          <a:xfrm>
            <a:off x="0" y="0"/>
            <a:ext cx="809640" cy="6858000"/>
            <a:chOff x="0" y="0"/>
            <a:chExt cx="809640" cy="6858000"/>
          </a:xfrm>
        </p:grpSpPr>
        <p:sp>
          <p:nvSpPr>
            <p:cNvPr id="51" name="Rectangle 7"/>
            <p:cNvSpPr/>
            <p:nvPr/>
          </p:nvSpPr>
          <p:spPr>
            <a:xfrm>
              <a:off x="0" y="0"/>
              <a:ext cx="809640" cy="6858000"/>
            </a:xfrm>
            <a:prstGeom prst="rect">
              <a:avLst/>
            </a:prstGeom>
            <a:solidFill>
              <a:srgbClr val="355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WordArt 8"/>
            <p:cNvSpPr txBox="1"/>
            <p:nvPr/>
          </p:nvSpPr>
          <p:spPr>
            <a:xfrm rot="5400000">
              <a:off x="-2148480" y="3310560"/>
              <a:ext cx="5105520" cy="3128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机械制图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</p:grpSp>
      <p:pic>
        <p:nvPicPr>
          <p:cNvPr id="53" name="Picture 19" descr="tuchiok"/>
          <p:cNvPicPr/>
          <p:nvPr/>
        </p:nvPicPr>
        <p:blipFill>
          <a:blip r:embed="rId2"/>
          <a:stretch/>
        </p:blipFill>
        <p:spPr>
          <a:xfrm>
            <a:off x="3780000" y="2300400"/>
            <a:ext cx="3276360" cy="218412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20"/>
          <p:cNvGrpSpPr/>
          <p:nvPr/>
        </p:nvGrpSpPr>
        <p:grpSpPr>
          <a:xfrm>
            <a:off x="2027160" y="3900600"/>
            <a:ext cx="2362320" cy="1904760"/>
            <a:chOff x="2027160" y="3900600"/>
            <a:chExt cx="2362320" cy="1904760"/>
          </a:xfrm>
        </p:grpSpPr>
        <p:sp>
          <p:nvSpPr>
            <p:cNvPr id="55" name="Oval 21"/>
            <p:cNvSpPr/>
            <p:nvPr/>
          </p:nvSpPr>
          <p:spPr>
            <a:xfrm>
              <a:off x="2637000" y="4433760"/>
              <a:ext cx="1066680" cy="106704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2"/>
            <p:cNvSpPr/>
            <p:nvPr/>
          </p:nvSpPr>
          <p:spPr>
            <a:xfrm>
              <a:off x="3246480" y="5043600"/>
              <a:ext cx="1143000" cy="761760"/>
            </a:xfrm>
            <a:prstGeom prst="rect">
              <a:avLst/>
            </a:prstGeom>
            <a:solidFill>
              <a:srgbClr val="ff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23"/>
            <p:cNvSpPr/>
            <p:nvPr/>
          </p:nvSpPr>
          <p:spPr>
            <a:xfrm>
              <a:off x="2027160" y="3900600"/>
              <a:ext cx="1143000" cy="1066680"/>
            </a:xfrm>
            <a:prstGeom prst="triangle">
              <a:avLst>
                <a:gd name="adj" fmla="val 50000"/>
              </a:avLst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8"/>
          <p:cNvSpPr/>
          <p:nvPr/>
        </p:nvSpPr>
        <p:spPr>
          <a:xfrm>
            <a:off x="1393920" y="620640"/>
            <a:ext cx="56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【例】标注挂轮架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10" descr=""/>
          <p:cNvPicPr/>
          <p:nvPr/>
        </p:nvPicPr>
        <p:blipFill>
          <a:blip r:embed="rId1"/>
          <a:stretch/>
        </p:blipFill>
        <p:spPr>
          <a:xfrm>
            <a:off x="684360" y="1413000"/>
            <a:ext cx="2243160" cy="2593800"/>
          </a:xfrm>
          <a:prstGeom prst="rect">
            <a:avLst/>
          </a:prstGeom>
          <a:ln w="0">
            <a:noFill/>
          </a:ln>
        </p:spPr>
      </p:pic>
      <p:sp>
        <p:nvSpPr>
          <p:cNvPr id="88" name="矩形 9"/>
          <p:cNvSpPr/>
          <p:nvPr/>
        </p:nvSpPr>
        <p:spPr>
          <a:xfrm>
            <a:off x="1141560" y="405936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标注挂轮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11" descr=""/>
          <p:cNvPicPr/>
          <p:nvPr/>
        </p:nvPicPr>
        <p:blipFill>
          <a:blip r:embed="rId2"/>
          <a:stretch/>
        </p:blipFill>
        <p:spPr>
          <a:xfrm>
            <a:off x="3564000" y="1820880"/>
            <a:ext cx="483696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5"/>
          <p:cNvSpPr/>
          <p:nvPr/>
        </p:nvSpPr>
        <p:spPr>
          <a:xfrm>
            <a:off x="1042920" y="213372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Times New Roman"/>
                <a:ea typeface="仿宋_GB2312"/>
              </a:rPr>
              <a:t>作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：习题集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9-15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9"/>
          <p:cNvSpPr/>
          <p:nvPr/>
        </p:nvSpPr>
        <p:spPr>
          <a:xfrm>
            <a:off x="3200400" y="2273400"/>
            <a:ext cx="295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华文新魏"/>
              </a:rPr>
              <a:t>本讲结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">
            <a:hlinkClick r:id="rId1" action="ppaction://hlinksldjump"/>
          </p:cNvPr>
          <p:cNvSpPr/>
          <p:nvPr/>
        </p:nvSpPr>
        <p:spPr>
          <a:xfrm>
            <a:off x="3759120" y="3414600"/>
            <a:ext cx="1644840" cy="1386000"/>
          </a:xfrm>
          <a:custGeom>
            <a:avLst/>
            <a:gdLst>
              <a:gd name="textAreaLeft" fmla="*/ 89640 w 1644840"/>
              <a:gd name="textAreaRight" fmla="*/ 1555200 w 1644840"/>
              <a:gd name="textAreaTop" fmla="*/ 89640 h 1386000"/>
              <a:gd name="textAreaBottom" fmla="*/ 1296360 h 1386000"/>
            </a:gdLst>
            <a:ahLst/>
            <a:rect l="textAreaLeft" t="textAreaTop" r="textAreaRight" b="textAreaBottom"/>
            <a:pathLst>
              <a:path w="25633" h="21600">
                <a:moveTo>
                  <a:pt x="0" y="0"/>
                </a:moveTo>
                <a:lnTo>
                  <a:pt x="25633" y="0"/>
                </a:lnTo>
                <a:lnTo>
                  <a:pt x="25633" y="21600"/>
                </a:lnTo>
                <a:lnTo>
                  <a:pt x="0" y="21600"/>
                </a:lnTo>
                <a:close/>
              </a:path>
              <a:path fill="lightenLess" w="25633" h="21600">
                <a:moveTo>
                  <a:pt x="0" y="0"/>
                </a:moveTo>
                <a:lnTo>
                  <a:pt x="25633" y="0"/>
                </a:lnTo>
                <a:lnTo>
                  <a:pt x="24233" y="1400"/>
                </a:lnTo>
                <a:lnTo>
                  <a:pt x="1400" y="1400"/>
                </a:lnTo>
                <a:close/>
              </a:path>
              <a:path fill="darken" w="25633" h="21600">
                <a:moveTo>
                  <a:pt x="25633" y="0"/>
                </a:moveTo>
                <a:lnTo>
                  <a:pt x="25633" y="21600"/>
                </a:lnTo>
                <a:lnTo>
                  <a:pt x="24233" y="20200"/>
                </a:lnTo>
                <a:lnTo>
                  <a:pt x="24233" y="1400"/>
                </a:lnTo>
                <a:close/>
              </a:path>
              <a:path fill="darkenLess" w="25633" h="21600">
                <a:moveTo>
                  <a:pt x="256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33" y="20200"/>
                </a:lnTo>
                <a:close/>
              </a:path>
              <a:path fill="lighten" w="256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33" h="21600">
                <a:moveTo>
                  <a:pt x="12816" y="3837"/>
                </a:moveTo>
                <a:lnTo>
                  <a:pt x="15393" y="6448"/>
                </a:lnTo>
                <a:lnTo>
                  <a:pt x="15393" y="4707"/>
                </a:lnTo>
                <a:lnTo>
                  <a:pt x="17168" y="4707"/>
                </a:lnTo>
                <a:lnTo>
                  <a:pt x="17168" y="8224"/>
                </a:lnTo>
                <a:lnTo>
                  <a:pt x="19779" y="10800"/>
                </a:lnTo>
                <a:lnTo>
                  <a:pt x="18126" y="10800"/>
                </a:lnTo>
                <a:lnTo>
                  <a:pt x="18126" y="17989"/>
                </a:lnTo>
                <a:lnTo>
                  <a:pt x="7507" y="17989"/>
                </a:lnTo>
                <a:lnTo>
                  <a:pt x="7507" y="10800"/>
                </a:lnTo>
                <a:lnTo>
                  <a:pt x="5853" y="10800"/>
                </a:lnTo>
                <a:close/>
              </a:path>
              <a:path fill="darkenLess" w="25633" h="21600">
                <a:moveTo>
                  <a:pt x="15393" y="6448"/>
                </a:moveTo>
                <a:lnTo>
                  <a:pt x="15393" y="4707"/>
                </a:lnTo>
                <a:lnTo>
                  <a:pt x="17168" y="4707"/>
                </a:lnTo>
                <a:lnTo>
                  <a:pt x="17168" y="8224"/>
                </a:lnTo>
                <a:close/>
              </a:path>
              <a:path fill="darkenLess" w="25633" h="21600">
                <a:moveTo>
                  <a:pt x="11894" y="14299"/>
                </a:moveTo>
                <a:lnTo>
                  <a:pt x="13739" y="14299"/>
                </a:lnTo>
                <a:lnTo>
                  <a:pt x="13739" y="17989"/>
                </a:lnTo>
                <a:lnTo>
                  <a:pt x="18126" y="17989"/>
                </a:lnTo>
                <a:lnTo>
                  <a:pt x="18126" y="10800"/>
                </a:lnTo>
                <a:lnTo>
                  <a:pt x="7507" y="10800"/>
                </a:lnTo>
                <a:lnTo>
                  <a:pt x="7507" y="17989"/>
                </a:lnTo>
                <a:lnTo>
                  <a:pt x="11894" y="17989"/>
                </a:lnTo>
                <a:close/>
              </a:path>
            </a:pathLst>
          </a:cu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黑体"/>
              </a:rPr>
              <a:t>回本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60"/>
          <p:cNvSpPr/>
          <p:nvPr/>
        </p:nvSpPr>
        <p:spPr>
          <a:xfrm>
            <a:off x="1332000" y="270828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三  文字和尺寸标注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0"/>
          <p:cNvSpPr/>
          <p:nvPr/>
        </p:nvSpPr>
        <p:spPr>
          <a:xfrm>
            <a:off x="2843280" y="157320"/>
            <a:ext cx="376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文字样式和标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4"/>
          <p:cNvSpPr/>
          <p:nvPr/>
        </p:nvSpPr>
        <p:spPr>
          <a:xfrm>
            <a:off x="903600" y="4636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文本样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3"/>
          <p:cNvSpPr/>
          <p:nvPr/>
        </p:nvSpPr>
        <p:spPr>
          <a:xfrm>
            <a:off x="500040" y="1216080"/>
            <a:ext cx="7817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命令行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STYLE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DDSTYLE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菜单栏：格式→文字样式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工具栏：文字→文字样式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功能区：默认→注释→文字样式 或注释→文字→文字样式→管理文字样式或注释→文字→对话框启动器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7" descr=""/>
          <p:cNvPicPr/>
          <p:nvPr/>
        </p:nvPicPr>
        <p:blipFill>
          <a:blip r:embed="rId1"/>
          <a:stretch/>
        </p:blipFill>
        <p:spPr>
          <a:xfrm>
            <a:off x="2062080" y="3159000"/>
            <a:ext cx="4692600" cy="2887920"/>
          </a:xfrm>
          <a:prstGeom prst="rect">
            <a:avLst/>
          </a:prstGeom>
          <a:ln w="0">
            <a:noFill/>
          </a:ln>
        </p:spPr>
      </p:pic>
      <p:sp>
        <p:nvSpPr>
          <p:cNvPr id="63" name="矩形 1"/>
          <p:cNvSpPr/>
          <p:nvPr/>
        </p:nvSpPr>
        <p:spPr>
          <a:xfrm>
            <a:off x="3708360" y="6237360"/>
            <a:ext cx="14000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474"/>
              </a:lnSpc>
              <a:spcBef>
                <a:spcPts val="238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文字样式”对话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4"/>
          <p:cNvSpPr/>
          <p:nvPr/>
        </p:nvSpPr>
        <p:spPr>
          <a:xfrm>
            <a:off x="798840" y="1476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文本标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3"/>
          <p:cNvSpPr/>
          <p:nvPr/>
        </p:nvSpPr>
        <p:spPr>
          <a:xfrm>
            <a:off x="395280" y="870120"/>
            <a:ext cx="849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单行文本标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命令行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TEXT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菜单栏：绘图→文字→单行文字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工具栏：文字→单行文字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功能区：默认→注释→单行文字或注释→文字→单行文字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6" descr="说明: t0711"/>
          <p:cNvPicPr/>
          <p:nvPr/>
        </p:nvPicPr>
        <p:blipFill>
          <a:blip r:embed="rId1"/>
          <a:srcRect l="3204" t="7039" r="3451" b="3910"/>
          <a:stretch/>
        </p:blipFill>
        <p:spPr>
          <a:xfrm>
            <a:off x="561960" y="3645000"/>
            <a:ext cx="4089240" cy="1230120"/>
          </a:xfrm>
          <a:prstGeom prst="rect">
            <a:avLst/>
          </a:prstGeom>
          <a:ln w="0">
            <a:noFill/>
          </a:ln>
        </p:spPr>
      </p:pic>
      <p:sp>
        <p:nvSpPr>
          <p:cNvPr id="67" name="矩形 2"/>
          <p:cNvSpPr/>
          <p:nvPr/>
        </p:nvSpPr>
        <p:spPr>
          <a:xfrm>
            <a:off x="2355480" y="50846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文本行的底线、基线、中线和顶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8" descr="说明: 未标题-2"/>
          <p:cNvPicPr/>
          <p:nvPr/>
        </p:nvPicPr>
        <p:blipFill>
          <a:blip r:embed="rId2"/>
          <a:stretch/>
        </p:blipFill>
        <p:spPr>
          <a:xfrm>
            <a:off x="5013360" y="3311640"/>
            <a:ext cx="3865680" cy="1563480"/>
          </a:xfrm>
          <a:prstGeom prst="rect">
            <a:avLst/>
          </a:prstGeom>
          <a:ln w="0">
            <a:noFill/>
          </a:ln>
        </p:spPr>
      </p:pic>
      <p:sp>
        <p:nvSpPr>
          <p:cNvPr id="69" name="矩形 3"/>
          <p:cNvSpPr/>
          <p:nvPr/>
        </p:nvSpPr>
        <p:spPr>
          <a:xfrm>
            <a:off x="6491520" y="508464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文本的对齐方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3"/>
          <p:cNvSpPr/>
          <p:nvPr/>
        </p:nvSpPr>
        <p:spPr>
          <a:xfrm>
            <a:off x="468360" y="549360"/>
            <a:ext cx="849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多行文本标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命令行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MTEXT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菜单栏：绘图→文字→多行文字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工具栏：绘图→多行文字 或文字→多行文字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功能区：默认→注释→多行文字 或注释→文字→多行文字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7" descr=""/>
          <p:cNvPicPr/>
          <p:nvPr/>
        </p:nvPicPr>
        <p:blipFill>
          <a:blip r:embed="rId1"/>
          <a:stretch/>
        </p:blipFill>
        <p:spPr>
          <a:xfrm>
            <a:off x="684360" y="2852640"/>
            <a:ext cx="782460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0"/>
          <p:cNvSpPr/>
          <p:nvPr/>
        </p:nvSpPr>
        <p:spPr>
          <a:xfrm>
            <a:off x="2843280" y="201600"/>
            <a:ext cx="376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尺寸样式和标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4"/>
          <p:cNvSpPr/>
          <p:nvPr/>
        </p:nvSpPr>
        <p:spPr>
          <a:xfrm>
            <a:off x="903600" y="4636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尺寸样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3"/>
          <p:cNvSpPr/>
          <p:nvPr/>
        </p:nvSpPr>
        <p:spPr>
          <a:xfrm>
            <a:off x="500040" y="1216080"/>
            <a:ext cx="7817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命令行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DIMSTYLE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菜单栏：格式→标注样式或标注→标注样式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工具栏：标注→标注样式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功能区：默认→注释→标注样式 ，或注释→标注→标注样式→管理标注样式，或注释→标注→对话框启动器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图片 6" descr=""/>
          <p:cNvPicPr/>
          <p:nvPr/>
        </p:nvPicPr>
        <p:blipFill>
          <a:blip r:embed="rId1"/>
          <a:stretch/>
        </p:blipFill>
        <p:spPr>
          <a:xfrm>
            <a:off x="858960" y="3357720"/>
            <a:ext cx="3970080" cy="2841480"/>
          </a:xfrm>
          <a:prstGeom prst="rect">
            <a:avLst/>
          </a:prstGeom>
          <a:ln w="0">
            <a:noFill/>
          </a:ln>
        </p:spPr>
      </p:pic>
      <p:pic>
        <p:nvPicPr>
          <p:cNvPr id="76" name="图片 8" descr=""/>
          <p:cNvPicPr/>
          <p:nvPr/>
        </p:nvPicPr>
        <p:blipFill>
          <a:blip r:embed="rId2"/>
          <a:stretch/>
        </p:blipFill>
        <p:spPr>
          <a:xfrm>
            <a:off x="5199120" y="4591080"/>
            <a:ext cx="2825640" cy="1608120"/>
          </a:xfrm>
          <a:prstGeom prst="rect">
            <a:avLst/>
          </a:prstGeom>
          <a:ln w="0">
            <a:noFill/>
          </a:ln>
        </p:spPr>
      </p:pic>
      <p:sp>
        <p:nvSpPr>
          <p:cNvPr id="77" name="矩形 2"/>
          <p:cNvSpPr/>
          <p:nvPr/>
        </p:nvSpPr>
        <p:spPr>
          <a:xfrm>
            <a:off x="1691280" y="6340320"/>
            <a:ext cx="23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标注样式管理器”对话框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3"/>
          <p:cNvSpPr/>
          <p:nvPr/>
        </p:nvSpPr>
        <p:spPr>
          <a:xfrm>
            <a:off x="5706000" y="6383160"/>
            <a:ext cx="18115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474"/>
              </a:lnSpc>
              <a:spcBef>
                <a:spcPts val="238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创建新标注样式”对话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5" descr=""/>
          <p:cNvPicPr/>
          <p:nvPr/>
        </p:nvPicPr>
        <p:blipFill>
          <a:blip r:embed="rId1"/>
          <a:stretch/>
        </p:blipFill>
        <p:spPr>
          <a:xfrm>
            <a:off x="179280" y="547560"/>
            <a:ext cx="5391360" cy="4618080"/>
          </a:xfrm>
          <a:prstGeom prst="rect">
            <a:avLst/>
          </a:prstGeom>
          <a:ln w="0">
            <a:noFill/>
          </a:ln>
        </p:spPr>
      </p:pic>
      <p:sp>
        <p:nvSpPr>
          <p:cNvPr id="80" name="矩形 1"/>
          <p:cNvSpPr/>
          <p:nvPr/>
        </p:nvSpPr>
        <p:spPr>
          <a:xfrm>
            <a:off x="1954440" y="5373720"/>
            <a:ext cx="212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新建标注样式”对话框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7" descr=""/>
          <p:cNvPicPr/>
          <p:nvPr/>
        </p:nvPicPr>
        <p:blipFill>
          <a:blip r:embed="rId2"/>
          <a:stretch/>
        </p:blipFill>
        <p:spPr>
          <a:xfrm>
            <a:off x="5796000" y="2841480"/>
            <a:ext cx="3146400" cy="2324160"/>
          </a:xfrm>
          <a:prstGeom prst="rect">
            <a:avLst/>
          </a:prstGeom>
          <a:ln w="0">
            <a:noFill/>
          </a:ln>
        </p:spPr>
      </p:pic>
      <p:sp>
        <p:nvSpPr>
          <p:cNvPr id="82" name="矩形 3"/>
          <p:cNvSpPr/>
          <p:nvPr/>
        </p:nvSpPr>
        <p:spPr>
          <a:xfrm>
            <a:off x="6532560" y="5405400"/>
            <a:ext cx="16743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474"/>
              </a:lnSpc>
              <a:spcBef>
                <a:spcPts val="238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比较标注样式”对话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4"/>
          <p:cNvSpPr/>
          <p:nvPr/>
        </p:nvSpPr>
        <p:spPr>
          <a:xfrm>
            <a:off x="856080" y="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尺寸标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3"/>
          <p:cNvSpPr/>
          <p:nvPr/>
        </p:nvSpPr>
        <p:spPr>
          <a:xfrm>
            <a:off x="438120" y="716040"/>
            <a:ext cx="7815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线性尺寸标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命令行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DIMLINEAR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快捷命令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DIMLIN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菜单栏：标注→线性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工具栏：标注→线性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功能区：默认→注释→线性 或注释→标注→线性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对齐标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命令行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DIMALIGNED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菜单栏：标注→对齐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工具栏：标注→对齐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功能区：默认→注释→对齐 或注释→标注→对齐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直径标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命令行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DIMDIAMETER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菜单栏：标注→直径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工具栏：标注→直径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功能区：默认→注释→直径 或注释→标注→直径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3"/>
          <p:cNvSpPr/>
          <p:nvPr/>
        </p:nvSpPr>
        <p:spPr>
          <a:xfrm>
            <a:off x="826920" y="765000"/>
            <a:ext cx="7817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半径标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命令行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DIMRADIUS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菜单栏：标注→半径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工具栏：标注→半径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功能区：默认→注释→半径 或注释→标注→半径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角度尺寸标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命令行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DIMANGULAR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菜单栏：标注→角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工具栏：标注→角度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功能区：默认→注释→角度 或注释→标注→角度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引线标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命令行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LEADER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03:27:23Z</dcterms:created>
  <dc:creator>zhangjing</dc:creator>
  <dc:description/>
  <dc:language>en-US</dc:language>
  <cp:lastModifiedBy>HUAWEI</cp:lastModifiedBy>
  <dcterms:modified xsi:type="dcterms:W3CDTF">2025-10-09T02:33:35Z</dcterms:modified>
  <cp:revision>513</cp:revision>
  <dc:subject/>
  <dc:title>幻灯片 1</dc:title>
</cp:coreProperties>
</file>