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4.png" ContentType="image/png"/>
  <Override PartName="/ppt/media/image2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1D58-9C85-4838-A0AD-93BD74793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2391B-132E-4852-981B-BB444C9BD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D7D8-830A-4BC2-B8DF-2BD9BF1FA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C540-CD0C-4A5D-B30F-8595C52BA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81E1-8F66-402B-BF13-C7B46FDE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14189-85B4-4BDA-AA14-716BBAE3F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BA5E-3D98-4511-A442-9D22FD87C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EED-439D-4AF5-85B4-4EAFEBAD7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0F20-F76C-4A6A-9A52-901CE1C31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2FAC-E087-4F48-A4A0-33E9C24A0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7903-474B-4A1A-820E-B902A0D7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5D7E-1741-415C-BEC4-06BE35CDA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D94F-830E-4D78-B41D-058B1FFA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C11D-B22F-44E6-92B8-336FBF245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DC8B6-5E4D-4AB2-B4C6-D62F585CE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FB041-5552-44B8-9327-25366F9F0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36F1-45AE-4C82-84F5-B83DC89F0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5CAD-1C31-495C-B019-2050D4207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B78A-99CE-4DE3-8825-01FCF15B7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251-CA1C-40A6-83ED-A5E1CF30A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099C-F487-4656-8C21-B09B22BF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902A-1666-48DD-AD57-11BFB3DF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2E7-B05E-456F-99D5-D8AEE552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6F54-8E99-4BB4-8C10-009AD45B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A8C0-6B8E-40A6-BD73-0343F572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5C6E-81A9-44F6-890F-00EAEDFA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468-2C8D-43C3-8B05-485519BD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AFE-B4A2-4033-AB86-53CD3136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4DC9-49A1-405A-89FE-38C51A9B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40FB-5E0A-4953-877D-A04744CB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BBAD-B54C-4337-97A9-4A172A35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34BE-7DE2-4F48-AACD-BD1583729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AutoCAD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制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"/>
          <p:cNvSpPr/>
          <p:nvPr/>
        </p:nvSpPr>
        <p:spPr>
          <a:xfrm>
            <a:off x="250920" y="404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的固定、浮动与打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可以在绘图区浮动。此时显示该工具栏标题，可关闭该工具栏，也可用鼠标拖曳浮动工具栏到图形区边界，使它变为固定工具栏，这时该工具栏标题隐藏。此外，还可把固定工具栏拖出，使它成为浮动工具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6300720" y="33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5" descr=""/>
          <p:cNvPicPr/>
          <p:nvPr/>
        </p:nvPicPr>
        <p:blipFill>
          <a:blip r:embed="rId1"/>
          <a:srcRect l="0" t="29122" r="0" b="0"/>
          <a:stretch/>
        </p:blipFill>
        <p:spPr>
          <a:xfrm>
            <a:off x="1874880" y="2492280"/>
            <a:ext cx="68263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"/>
          <p:cNvSpPr/>
          <p:nvPr/>
        </p:nvSpPr>
        <p:spPr>
          <a:xfrm>
            <a:off x="1518840" y="4762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命令行窗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6" descr=""/>
          <p:cNvPicPr/>
          <p:nvPr/>
        </p:nvPicPr>
        <p:blipFill>
          <a:blip r:embed="rId1"/>
          <a:stretch/>
        </p:blipFill>
        <p:spPr>
          <a:xfrm>
            <a:off x="1547640" y="1301760"/>
            <a:ext cx="642312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28200" y="47628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布局标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状态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图片 4" descr=""/>
          <p:cNvPicPr/>
          <p:nvPr/>
        </p:nvPicPr>
        <p:blipFill>
          <a:blip r:embed="rId1"/>
          <a:stretch/>
        </p:blipFill>
        <p:spPr>
          <a:xfrm>
            <a:off x="468360" y="1563840"/>
            <a:ext cx="8059680" cy="134748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127080" y="2911320"/>
            <a:ext cx="42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功能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设置选项卡。将光标放在面板的任意位置处，然后右击。如果单击某一个未在功能区显示的选项卡名，那么系统会自动在功能区打开该选项卡；反之，如果单击某一个已在功能区显示的选项卡名，那么系统会自动关闭该选项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495612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对象 5"/>
          <p:cNvGraphicFramePr/>
          <p:nvPr/>
        </p:nvGraphicFramePr>
        <p:xfrm>
          <a:off x="4956120" y="3193920"/>
          <a:ext cx="2971800" cy="337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对象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6120" y="3193920"/>
                    <a:ext cx="2971800" cy="33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3"/>
          <p:cNvSpPr/>
          <p:nvPr/>
        </p:nvSpPr>
        <p:spPr>
          <a:xfrm>
            <a:off x="1981080" y="404640"/>
            <a:ext cx="23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项卡面板中的“固定”与“浮动”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956120" y="319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7" descr=""/>
          <p:cNvPicPr/>
          <p:nvPr/>
        </p:nvPicPr>
        <p:blipFill>
          <a:blip r:embed="rId1"/>
          <a:srcRect l="0" t="32357" r="0" b="0"/>
          <a:stretch/>
        </p:blipFill>
        <p:spPr>
          <a:xfrm>
            <a:off x="324000" y="1638360"/>
            <a:ext cx="5446440" cy="311292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8" descr=""/>
          <p:cNvPicPr/>
          <p:nvPr/>
        </p:nvPicPr>
        <p:blipFill>
          <a:blip r:embed="rId2"/>
          <a:stretch/>
        </p:blipFill>
        <p:spPr>
          <a:xfrm>
            <a:off x="6161040" y="3973680"/>
            <a:ext cx="246852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1274400" y="16992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设置绘图参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"/>
          <p:cNvSpPr/>
          <p:nvPr/>
        </p:nvSpPr>
        <p:spPr>
          <a:xfrm>
            <a:off x="622080" y="981000"/>
            <a:ext cx="4204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绘图单位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DUNIT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NIT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格式→单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图形边界设置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IMIT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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格式→图形界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5508720" y="404640"/>
            <a:ext cx="3343320" cy="37339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6" descr=""/>
          <p:cNvPicPr/>
          <p:nvPr/>
        </p:nvPicPr>
        <p:blipFill>
          <a:blip r:embed="rId2"/>
          <a:stretch/>
        </p:blipFill>
        <p:spPr>
          <a:xfrm>
            <a:off x="1187280" y="4292640"/>
            <a:ext cx="2305080" cy="225756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7" descr=""/>
          <p:cNvPicPr/>
          <p:nvPr/>
        </p:nvPicPr>
        <p:blipFill>
          <a:blip r:embed="rId3"/>
          <a:stretch/>
        </p:blipFill>
        <p:spPr>
          <a:xfrm>
            <a:off x="4500720" y="5416560"/>
            <a:ext cx="35701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0"/>
          <p:cNvSpPr/>
          <p:nvPr/>
        </p:nvSpPr>
        <p:spPr>
          <a:xfrm>
            <a:off x="3540240" y="1890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图层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1093680" y="57780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利用对话框设置图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539640" y="141300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行：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LAYE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菜单栏：格式→图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：图层→图层特性管理器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功能区：默认→图层→图层特性 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1" descr=""/>
          <p:cNvPicPr/>
          <p:nvPr/>
        </p:nvPicPr>
        <p:blipFill>
          <a:blip r:embed="rId1"/>
          <a:stretch/>
        </p:blipFill>
        <p:spPr>
          <a:xfrm>
            <a:off x="1403280" y="3102120"/>
            <a:ext cx="6543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5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4773600" cy="29858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6" descr=""/>
          <p:cNvPicPr/>
          <p:nvPr/>
        </p:nvPicPr>
        <p:blipFill>
          <a:blip r:embed="rId2"/>
          <a:stretch/>
        </p:blipFill>
        <p:spPr>
          <a:xfrm>
            <a:off x="5724360" y="1179360"/>
            <a:ext cx="3106800" cy="3219480"/>
          </a:xfrm>
          <a:prstGeom prst="rect">
            <a:avLst/>
          </a:prstGeom>
          <a:ln w="0">
            <a:noFill/>
          </a:ln>
        </p:spPr>
      </p:pic>
      <p:sp>
        <p:nvSpPr>
          <p:cNvPr id="122" name="矩形 1"/>
          <p:cNvSpPr/>
          <p:nvPr/>
        </p:nvSpPr>
        <p:spPr>
          <a:xfrm>
            <a:off x="1629360" y="4653000"/>
            <a:ext cx="23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层过滤器特性”对话框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"/>
          <p:cNvSpPr/>
          <p:nvPr/>
        </p:nvSpPr>
        <p:spPr>
          <a:xfrm>
            <a:off x="6105960" y="4737240"/>
            <a:ext cx="1816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层状态管理器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1481040" y="3578400"/>
            <a:ext cx="14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选择颜色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7" descr=""/>
          <p:cNvPicPr/>
          <p:nvPr/>
        </p:nvPicPr>
        <p:blipFill>
          <a:blip r:embed="rId1"/>
          <a:stretch/>
        </p:blipFill>
        <p:spPr>
          <a:xfrm>
            <a:off x="1042920" y="741240"/>
            <a:ext cx="2773440" cy="26910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8" descr=""/>
          <p:cNvPicPr/>
          <p:nvPr/>
        </p:nvPicPr>
        <p:blipFill>
          <a:blip r:embed="rId2"/>
          <a:stretch/>
        </p:blipFill>
        <p:spPr>
          <a:xfrm>
            <a:off x="4383000" y="644400"/>
            <a:ext cx="4453200" cy="278784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5752440" y="35784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选择线型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9" descr=""/>
          <p:cNvPicPr/>
          <p:nvPr/>
        </p:nvPicPr>
        <p:blipFill>
          <a:blip r:embed="rId3"/>
          <a:stretch/>
        </p:blipFill>
        <p:spPr>
          <a:xfrm>
            <a:off x="3409920" y="3776760"/>
            <a:ext cx="2071800" cy="249876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3738240" y="64357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线宽”对话框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4"/>
          <p:cNvSpPr/>
          <p:nvPr/>
        </p:nvSpPr>
        <p:spPr>
          <a:xfrm>
            <a:off x="1011600" y="18900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利用工具栏设置图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95280" y="11970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提供一个“特性”面板。用户可以利用面板上的图标快速地查看和改变所选对象的图层、颜色、线型和线宽等特性。“特性”面板上的图层颜色、线型、线宽和打印样式的控制增强了查看和编辑对象属性的命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6" descr=""/>
          <p:cNvPicPr/>
          <p:nvPr/>
        </p:nvPicPr>
        <p:blipFill>
          <a:blip r:embed="rId1"/>
          <a:stretch/>
        </p:blipFill>
        <p:spPr>
          <a:xfrm>
            <a:off x="3235320" y="3040200"/>
            <a:ext cx="2390760" cy="260964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3842640" y="5740560"/>
            <a:ext cx="117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特性”面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1042920" y="21337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-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9-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九任务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绘图基本操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619280" y="2708280"/>
            <a:ext cx="590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一  绘图基本设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987640" y="216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绘图基本设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1270440" y="477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操作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7" descr=""/>
          <p:cNvPicPr/>
          <p:nvPr/>
        </p:nvPicPr>
        <p:blipFill>
          <a:blip r:embed="rId1"/>
          <a:stretch/>
        </p:blipFill>
        <p:spPr>
          <a:xfrm>
            <a:off x="1042920" y="1320840"/>
            <a:ext cx="62294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1"/>
          <a:stretch/>
        </p:blipFill>
        <p:spPr>
          <a:xfrm>
            <a:off x="1063800" y="2700360"/>
            <a:ext cx="1869840" cy="3384360"/>
          </a:xfrm>
          <a:prstGeom prst="rect">
            <a:avLst/>
          </a:prstGeom>
          <a:ln w="0">
            <a:noFill/>
          </a:ln>
        </p:spPr>
      </p:pic>
      <p:sp>
        <p:nvSpPr>
          <p:cNvPr id="65" name="箭头: 右 45"/>
          <p:cNvSpPr/>
          <p:nvPr/>
        </p:nvSpPr>
        <p:spPr>
          <a:xfrm>
            <a:off x="3281400" y="4869000"/>
            <a:ext cx="511200" cy="180720"/>
          </a:xfrm>
          <a:prstGeom prst="rightArrow">
            <a:avLst>
              <a:gd name="adj1" fmla="val 50000"/>
              <a:gd name="adj2" fmla="val 5738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"/>
          <p:cNvPicPr/>
          <p:nvPr/>
        </p:nvPicPr>
        <p:blipFill>
          <a:blip r:embed="rId2"/>
          <a:stretch/>
        </p:blipFill>
        <p:spPr>
          <a:xfrm>
            <a:off x="4170240" y="2700360"/>
            <a:ext cx="432144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矩形 1"/>
          <p:cNvSpPr/>
          <p:nvPr/>
        </p:nvSpPr>
        <p:spPr>
          <a:xfrm>
            <a:off x="1063800" y="40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安装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 202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后，在绘图区中右击，打开快捷菜单。选择“选项”命令，打开“选项”对话框，选择“显示”选项卡，将“窗口元素”选项组中的“颜色主题”设置为“明” 。单击“确定”按钮，退出该对话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3"/>
          <p:cNvSpPr/>
          <p:nvPr/>
        </p:nvSpPr>
        <p:spPr>
          <a:xfrm>
            <a:off x="971640" y="476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标题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 202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中文版绘图窗口的最上端是标题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绘图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图区是指在标题栏下方的大片空白区域，它是用户使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制图形的区域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修改图形窗口中十字光标的大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绘图窗口中选择菜单栏中的“工具”→“选项”命令，打开“选项”对话框，选择“显示”选项卡，在“十字光标大小”选项组的文本框中直接输入数值，或者拖曳文本框后面的滑块，即可对十字光标的大小进行调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修改绘图窗口的颜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选择“工具”→“选项”命令，打开“选项”对话框，选择“显示”选项卡，单击“窗口元素”选项组中的“颜色”按钮，打开“图形窗口颜色”对话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8" descr=""/>
          <p:cNvPicPr/>
          <p:nvPr/>
        </p:nvPicPr>
        <p:blipFill>
          <a:blip r:embed="rId1"/>
          <a:stretch/>
        </p:blipFill>
        <p:spPr>
          <a:xfrm>
            <a:off x="2050920" y="620640"/>
            <a:ext cx="4818240" cy="4303800"/>
          </a:xfrm>
          <a:prstGeom prst="rect">
            <a:avLst/>
          </a:prstGeom>
          <a:ln w="0">
            <a:noFill/>
          </a:ln>
        </p:spPr>
      </p:pic>
      <p:sp>
        <p:nvSpPr>
          <p:cNvPr id="72" name="矩形 3"/>
          <p:cNvSpPr/>
          <p:nvPr/>
        </p:nvSpPr>
        <p:spPr>
          <a:xfrm>
            <a:off x="3623760" y="5300640"/>
            <a:ext cx="16743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474"/>
              </a:lnSpc>
              <a:spcBef>
                <a:spcPts val="238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图形窗口颜色”对话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179280" y="260280"/>
            <a:ext cx="88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坐标系图标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绘图区的左下角有一个直线指向图标，称为坐标系图标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菜单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同其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indow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程序一样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菜单也是下拉形式，并在菜单中包含子菜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3" descr=""/>
          <p:cNvPicPr/>
          <p:nvPr/>
        </p:nvPicPr>
        <p:blipFill>
          <a:blip r:embed="rId1"/>
          <a:stretch/>
        </p:blipFill>
        <p:spPr>
          <a:xfrm>
            <a:off x="3059280" y="2200320"/>
            <a:ext cx="2881080" cy="28843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4" descr=""/>
          <p:cNvPicPr/>
          <p:nvPr/>
        </p:nvPicPr>
        <p:blipFill>
          <a:blip r:embed="rId2"/>
          <a:stretch/>
        </p:blipFill>
        <p:spPr>
          <a:xfrm>
            <a:off x="1619280" y="5373720"/>
            <a:ext cx="57610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1"/>
          <a:stretch/>
        </p:blipFill>
        <p:spPr>
          <a:xfrm>
            <a:off x="272880" y="1374840"/>
            <a:ext cx="2613240" cy="44355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3276720" y="7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对象 3"/>
          <p:cNvGraphicFramePr/>
          <p:nvPr/>
        </p:nvGraphicFramePr>
        <p:xfrm>
          <a:off x="3571920" y="425520"/>
          <a:ext cx="2705040" cy="5391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对象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71920" y="425520"/>
                    <a:ext cx="270504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图片 8" descr=""/>
          <p:cNvPicPr/>
          <p:nvPr/>
        </p:nvPicPr>
        <p:blipFill>
          <a:blip r:embed="rId4"/>
          <a:stretch/>
        </p:blipFill>
        <p:spPr>
          <a:xfrm>
            <a:off x="6962760" y="819000"/>
            <a:ext cx="1770120" cy="4991400"/>
          </a:xfrm>
          <a:prstGeom prst="rect">
            <a:avLst/>
          </a:prstGeom>
          <a:ln w="0">
            <a:noFill/>
          </a:ln>
        </p:spPr>
      </p:pic>
      <p:sp>
        <p:nvSpPr>
          <p:cNvPr id="82" name="矩形 6"/>
          <p:cNvSpPr/>
          <p:nvPr/>
        </p:nvSpPr>
        <p:spPr>
          <a:xfrm>
            <a:off x="650160" y="60595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带有子菜单的菜单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3764160" y="60739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打开相应对话框的菜单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7044120" y="60739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直接执行菜单命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"/>
          <p:cNvSpPr/>
          <p:nvPr/>
        </p:nvSpPr>
        <p:spPr>
          <a:xfrm>
            <a:off x="250920" y="404640"/>
            <a:ext cx="59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工具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工具栏是一组图标型工具的集合，选择菜单栏中的“工具”→“工具栏”→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，调出所需要的工具栏，把光标移动到某个图标上，稍停片刻即在该图标一侧显示相应的工具提示，同时在状态栏中，显示对应的说明和命令名。此时，单击图标可以启动相应命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设置工具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 202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标准菜单提供有几十种工具栏，选择菜单栏中的“工具”→“工具栏”→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utoCA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命令，系统会自动打开单独的工具栏标签列表。单击某一个未在界面显示的工具栏标签名，则系统自动在工作界面打开该工具栏；反之，单击某一个已在界面显示的工具栏标签名，则系统自动关闭工具栏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300720" y="335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对象 6"/>
          <p:cNvGraphicFramePr/>
          <p:nvPr/>
        </p:nvGraphicFramePr>
        <p:xfrm>
          <a:off x="5969160" y="1476360"/>
          <a:ext cx="3143160" cy="375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对象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69160" y="1476360"/>
                    <a:ext cx="3143160" cy="375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矩形 1"/>
          <p:cNvSpPr/>
          <p:nvPr/>
        </p:nvSpPr>
        <p:spPr>
          <a:xfrm>
            <a:off x="6737040" y="543708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独的工具栏标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3:28Z</dcterms:modified>
  <cp:revision>496</cp:revision>
  <dc:subject/>
  <dc:title>幻灯片 1</dc:title>
</cp:coreProperties>
</file>