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52.png" ContentType="image/png"/>
  <Override PartName="/ppt/media/image26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31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.png" ContentType="image/png"/>
  <Override PartName="/ppt/media/image33.png" ContentType="image/png"/>
  <Override PartName="/ppt/media/image30.png" ContentType="image/png"/>
  <Override PartName="/ppt/media/image35.jpeg" ContentType="image/jpeg"/>
  <Override PartName="/ppt/media/image5.png" ContentType="image/png"/>
  <Override PartName="/ppt/media/image41.png" ContentType="image/png"/>
  <Override PartName="/ppt/media/image40.png" ContentType="image/png"/>
  <Override PartName="/ppt/media/image42.jpeg" ContentType="image/jpeg"/>
  <Override PartName="/ppt/media/image51.png" ContentType="image/png"/>
  <Override PartName="/ppt/media/image13.png" ContentType="image/png"/>
  <Override PartName="/ppt/media/image50.png" ContentType="image/png"/>
  <Override PartName="/ppt/media/image4.png" ContentType="image/png"/>
  <Override PartName="/ppt/media/image34.png" ContentType="image/png"/>
  <Override PartName="/ppt/media/image44.jpeg" ContentType="image/jpe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3.png" ContentType="image/png"/>
  <Override PartName="/ppt/media/image47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10.wmf" ContentType="image/x-wmf"/>
  <Override PartName="/ppt/media/image32.png" ContentType="image/png"/>
  <Override PartName="/ppt/media/image25.jpeg" ContentType="image/jpeg"/>
  <Override PartName="/ppt/media/image36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CD50-C557-4E96-92DF-2876AF14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5DA-9B32-4477-A701-EA2117D62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5A8-DFCC-4616-A665-86213380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1296-9BD8-4D4F-83F6-AFD6AED12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9E2B-DCF1-4601-976C-48C93F1D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9859-0A95-4382-B6EC-FB380186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9E0F-CC08-4CDF-952B-077FB56D1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9A5D-5EE5-4F08-8301-C529D611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94E9-497C-4CBD-9768-6977866F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E34D-A1BE-41BA-BB0E-A98CBAE2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5C7C-1636-4348-96A3-1A11B1C6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862-F5C0-4496-8FDD-4517F344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EE8F-6D2C-497E-9880-F39CC0F715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0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image" Target="../media/image28.jpeg"/><Relationship Id="rId12" Type="http://schemas.openxmlformats.org/officeDocument/2006/relationships/image" Target="../media/image29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187280" y="981000"/>
            <a:ext cx="7353360" cy="6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机械制图基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13"/>
          <p:cNvSpPr/>
          <p:nvPr/>
        </p:nvSpPr>
        <p:spPr>
          <a:xfrm>
            <a:off x="1463760" y="2000160"/>
            <a:ext cx="6773760" cy="4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4"/>
          <p:cNvGrpSpPr/>
          <p:nvPr/>
        </p:nvGrpSpPr>
        <p:grpSpPr>
          <a:xfrm>
            <a:off x="0" y="0"/>
            <a:ext cx="725400" cy="6858000"/>
            <a:chOff x="0" y="0"/>
            <a:chExt cx="725400" cy="6858000"/>
          </a:xfrm>
        </p:grpSpPr>
        <p:sp>
          <p:nvSpPr>
            <p:cNvPr id="44" name="Rectangle 15"/>
            <p:cNvSpPr/>
            <p:nvPr/>
          </p:nvSpPr>
          <p:spPr>
            <a:xfrm>
              <a:off x="0" y="0"/>
              <a:ext cx="725400" cy="6858000"/>
            </a:xfrm>
            <a:prstGeom prst="rect">
              <a:avLst/>
            </a:prstGeom>
            <a:solidFill>
              <a:srgbClr val="3554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WordArt 16"/>
            <p:cNvSpPr txBox="1"/>
            <p:nvPr/>
          </p:nvSpPr>
          <p:spPr>
            <a:xfrm rot="5400000">
              <a:off x="-2190240" y="3326760"/>
              <a:ext cx="5105520" cy="28044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1" strike="noStrike">
                  <a:ln w="19080">
                    <a:solidFill>
                      <a:srgbClr val="99ccff"/>
                    </a:solidFill>
                    <a:round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机械制图</a:t>
              </a:r>
              <a:endParaRPr b="0" lang="en-US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6" name="WordArt 17"/>
          <p:cNvSpPr txBox="1"/>
          <p:nvPr/>
        </p:nvSpPr>
        <p:spPr>
          <a:xfrm>
            <a:off x="3708360" y="6093000"/>
            <a:ext cx="2533680" cy="35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cc99ff"/>
                  </a:solidFill>
                  <a:round/>
                </a:ln>
                <a:solidFill>
                  <a:srgbClr val="ff00ff"/>
                </a:solidFill>
                <a:latin typeface="隶书"/>
              </a:rPr>
              <a:t>机械设计教研室</a:t>
            </a:r>
            <a:endParaRPr b="0" lang="en-US" sz="2800" spc="1" strike="noStrike">
              <a:ln w="19080">
                <a:solidFill>
                  <a:srgbClr val="cc99ff"/>
                </a:solidFill>
                <a:round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pic>
        <p:nvPicPr>
          <p:cNvPr id="47" name="Picture 31" descr="tuchiok"/>
          <p:cNvPicPr/>
          <p:nvPr/>
        </p:nvPicPr>
        <p:blipFill>
          <a:blip r:embed="rId1"/>
          <a:stretch/>
        </p:blipFill>
        <p:spPr>
          <a:xfrm>
            <a:off x="3352680" y="2438280"/>
            <a:ext cx="3276720" cy="2184480"/>
          </a:xfrm>
          <a:prstGeom prst="rect">
            <a:avLst/>
          </a:prstGeom>
          <a:ln w="0">
            <a:noFill/>
          </a:ln>
        </p:spPr>
      </p:pic>
      <p:grpSp>
        <p:nvGrpSpPr>
          <p:cNvPr id="48" name="Group 32"/>
          <p:cNvGrpSpPr/>
          <p:nvPr/>
        </p:nvGrpSpPr>
        <p:grpSpPr>
          <a:xfrm>
            <a:off x="1600200" y="4038480"/>
            <a:ext cx="2362320" cy="1904760"/>
            <a:chOff x="1600200" y="4038480"/>
            <a:chExt cx="2362320" cy="1904760"/>
          </a:xfrm>
        </p:grpSpPr>
        <p:sp>
          <p:nvSpPr>
            <p:cNvPr id="49" name="Oval 33"/>
            <p:cNvSpPr/>
            <p:nvPr/>
          </p:nvSpPr>
          <p:spPr>
            <a:xfrm>
              <a:off x="2210040" y="4571640"/>
              <a:ext cx="1066680" cy="1067040"/>
            </a:xfrm>
            <a:prstGeom prst="ellipse">
              <a:avLst/>
            </a:prstGeom>
            <a:solidFill>
              <a:srgbClr val="33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34"/>
            <p:cNvSpPr/>
            <p:nvPr/>
          </p:nvSpPr>
          <p:spPr>
            <a:xfrm>
              <a:off x="2819520" y="5181480"/>
              <a:ext cx="1143000" cy="761760"/>
            </a:xfrm>
            <a:prstGeom prst="rect">
              <a:avLst/>
            </a:prstGeom>
            <a:solidFill>
              <a:srgbClr val="ff99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AutoShape 35"/>
            <p:cNvSpPr/>
            <p:nvPr/>
          </p:nvSpPr>
          <p:spPr>
            <a:xfrm>
              <a:off x="1600200" y="4038480"/>
              <a:ext cx="1143000" cy="1066680"/>
            </a:xfrm>
            <a:prstGeom prst="triangle">
              <a:avLst>
                <a:gd name="adj" fmla="val 50000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29400" cy="2592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75004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对中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6710040" y="4149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方向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4"/>
          <p:cNvSpPr/>
          <p:nvPr/>
        </p:nvSpPr>
        <p:spPr>
          <a:xfrm>
            <a:off x="1692360" y="189000"/>
            <a:ext cx="82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比例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/T 14690–19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611280" y="2133720"/>
          <a:ext cx="8064360" cy="3992400"/>
        </p:xfrm>
        <a:graphic>
          <a:graphicData uri="http://schemas.openxmlformats.org/drawingml/2006/table">
            <a:tbl>
              <a:tblPr/>
              <a:tblGrid>
                <a:gridCol w="1079640"/>
                <a:gridCol w="1584360"/>
                <a:gridCol w="2592360"/>
                <a:gridCol w="2808000"/>
              </a:tblGrid>
              <a:tr h="6667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种    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定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标 准 比 例 系 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宋体"/>
                        </a:rPr>
                        <a:t>可 用 比 例 系 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4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原值比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值为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46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放大比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值大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 : 1                     2 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 1       2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: 1                    2.5  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1        2.5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: 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36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小比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值小于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2        1 : 5          1 :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2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1 : 5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1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1.5     1 : 2.5      1 : 3    1 : 4      1 : 6     1 : 1.5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2.5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3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1 : 4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       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 : 6 × 10</a:t>
                      </a:r>
                      <a:r>
                        <a:rPr b="1" lang="en-US" sz="1600" spc="-1" strike="noStrike" baseline="50000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3"/>
          <p:cNvSpPr/>
          <p:nvPr/>
        </p:nvSpPr>
        <p:spPr>
          <a:xfrm>
            <a:off x="1547640" y="115920"/>
            <a:ext cx="77724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字体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/T 14691–199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250920" y="16167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字体的大小以号数（字体的高度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单位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表示，其允许的尺寸系列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.8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.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如需要书写更大的字，字体高度应按   的比率递增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数字用作指数、分数、注脚和尺寸偏差数值时，一般采用小一号字体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汉字应写成长仿宋体字，并采用简化字。书写时做到横平竖直、注意起落、结构均匀、填满方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字母和数字分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型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型。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型字体的笔画宽度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/1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型字体的笔画宽度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/1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字母和数字可以写成斜体和直体。斜体字字头向右倾斜，与水平基准线成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°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对象 3" descr=""/>
          <p:cNvPicPr/>
          <p:nvPr/>
        </p:nvPicPr>
        <p:blipFill>
          <a:blip r:embed="rId1"/>
          <a:stretch/>
        </p:blipFill>
        <p:spPr>
          <a:xfrm>
            <a:off x="7305840" y="1844640"/>
            <a:ext cx="295200" cy="281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字体示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图片 12" descr="0108"/>
          <p:cNvPicPr/>
          <p:nvPr/>
        </p:nvPicPr>
        <p:blipFill>
          <a:blip r:embed="rId1"/>
          <a:srcRect l="0" t="-3114" r="0" b="0"/>
          <a:stretch/>
        </p:blipFill>
        <p:spPr>
          <a:xfrm>
            <a:off x="1744560" y="1628640"/>
            <a:ext cx="6180120" cy="244800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1"/>
          <p:cNvSpPr/>
          <p:nvPr/>
        </p:nvSpPr>
        <p:spPr>
          <a:xfrm>
            <a:off x="2843280" y="4365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长仿宋体书写示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7"/>
          <p:cNvSpPr/>
          <p:nvPr/>
        </p:nvSpPr>
        <p:spPr>
          <a:xfrm>
            <a:off x="1038240" y="12128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大写直体字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966960" y="2751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小写直体字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338120" y="402588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直体数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966960" y="504684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直体罗马数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图片 22" descr=""/>
          <p:cNvPicPr/>
          <p:nvPr/>
        </p:nvPicPr>
        <p:blipFill>
          <a:blip r:embed="rId1"/>
          <a:stretch/>
        </p:blipFill>
        <p:spPr>
          <a:xfrm>
            <a:off x="3276720" y="857160"/>
            <a:ext cx="2946240" cy="11732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4" descr=""/>
          <p:cNvPicPr/>
          <p:nvPr/>
        </p:nvPicPr>
        <p:blipFill>
          <a:blip r:embed="rId2"/>
          <a:stretch/>
        </p:blipFill>
        <p:spPr>
          <a:xfrm>
            <a:off x="3276720" y="2368440"/>
            <a:ext cx="3058920" cy="12272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26" descr="0216"/>
          <p:cNvPicPr/>
          <p:nvPr/>
        </p:nvPicPr>
        <p:blipFill>
          <a:blip r:embed="rId3"/>
          <a:srcRect l="0" t="13168" r="0" b="0"/>
          <a:stretch/>
        </p:blipFill>
        <p:spPr>
          <a:xfrm>
            <a:off x="3276720" y="3933720"/>
            <a:ext cx="3516120" cy="647640"/>
          </a:xfrm>
          <a:prstGeom prst="rect">
            <a:avLst/>
          </a:prstGeom>
          <a:ln w="0">
            <a:noFill/>
          </a:ln>
        </p:spPr>
      </p:pic>
      <p:pic>
        <p:nvPicPr>
          <p:cNvPr id="129" name="图片 28" descr="0218"/>
          <p:cNvPicPr/>
          <p:nvPr/>
        </p:nvPicPr>
        <p:blipFill>
          <a:blip r:embed="rId4"/>
          <a:stretch/>
        </p:blipFill>
        <p:spPr>
          <a:xfrm>
            <a:off x="3276720" y="4917960"/>
            <a:ext cx="4952880" cy="720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7"/>
          <p:cNvSpPr/>
          <p:nvPr/>
        </p:nvSpPr>
        <p:spPr>
          <a:xfrm>
            <a:off x="1038240" y="1212840"/>
            <a:ext cx="21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大写直体字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966960" y="27511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小写直体字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1338120" y="4025880"/>
            <a:ext cx="14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直体数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966960" y="504684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仿宋_GB2312"/>
              </a:rPr>
              <a:t>直体罗马数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图片 23" descr="0211"/>
          <p:cNvPicPr/>
          <p:nvPr/>
        </p:nvPicPr>
        <p:blipFill>
          <a:blip r:embed="rId1"/>
          <a:stretch/>
        </p:blipFill>
        <p:spPr>
          <a:xfrm>
            <a:off x="3321000" y="1055520"/>
            <a:ext cx="3186000" cy="97632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25" descr="0212"/>
          <p:cNvPicPr/>
          <p:nvPr/>
        </p:nvPicPr>
        <p:blipFill>
          <a:blip r:embed="rId2"/>
          <a:stretch/>
        </p:blipFill>
        <p:spPr>
          <a:xfrm>
            <a:off x="3321000" y="2328840"/>
            <a:ext cx="3503520" cy="122544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27" descr="0215"/>
          <p:cNvPicPr/>
          <p:nvPr/>
        </p:nvPicPr>
        <p:blipFill>
          <a:blip r:embed="rId3"/>
          <a:stretch/>
        </p:blipFill>
        <p:spPr>
          <a:xfrm>
            <a:off x="3321000" y="3932280"/>
            <a:ext cx="3459240" cy="7380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29" descr="0217"/>
          <p:cNvPicPr/>
          <p:nvPr/>
        </p:nvPicPr>
        <p:blipFill>
          <a:blip r:embed="rId4"/>
          <a:stretch/>
        </p:blipFill>
        <p:spPr>
          <a:xfrm>
            <a:off x="3317760" y="4998960"/>
            <a:ext cx="4938840" cy="674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6"/>
          <p:cNvSpPr/>
          <p:nvPr/>
        </p:nvSpPr>
        <p:spPr>
          <a:xfrm>
            <a:off x="3875040" y="1440"/>
            <a:ext cx="22384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、图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57120" y="1108080"/>
          <a:ext cx="8296200" cy="5695920"/>
        </p:xfrm>
        <a:graphic>
          <a:graphicData uri="http://schemas.openxmlformats.org/drawingml/2006/table">
            <a:tbl>
              <a:tblPr/>
              <a:tblGrid>
                <a:gridCol w="1457280"/>
                <a:gridCol w="2043000"/>
                <a:gridCol w="1079640"/>
                <a:gridCol w="3716280"/>
              </a:tblGrid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线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线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一般应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细实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过渡线、尺寸线、尺寸界线、指引线和基准线、剖面线、重合断面的轮廓线、短中心线、螺纹牙底线、尺寸线的起止线等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波浪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断裂处边界线、视图与剖视图的分界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双折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粗实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可见棱边线、可见轮廓线、相贯线、螺纹牙顶线、螺纹长度终止线、齿顶圆（线）、表格图和流程图中的主要表示线、系统结构线（金属结构工程）、模样分型线、剖切符号用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细虚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可见棱边线、不可见轮廓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粗虚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允许表面处理的表示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2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细点画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040" rIns="68040" tIns="0" bIns="0" anchor="ctr">
                      <a:noAutofit/>
                    </a:bodyPr>
                    <a:p>
                      <a:pPr algn="just">
                        <a:spcBef>
                          <a:spcPts val="99"/>
                        </a:spcBef>
                        <a:spcAft>
                          <a:spcPts val="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轴线、对称中心线、分度圆（线）、孔系分布的中心线、剖切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040" marR="68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粗点画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限定范围表示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细双点画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相邻辅助零件的轮廓线、可动零件的极限位置的轮廓线、重心线、成形前轮廓线等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0" name="图片 4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1387440" cy="468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5" descr=""/>
          <p:cNvPicPr/>
          <p:nvPr/>
        </p:nvPicPr>
        <p:blipFill>
          <a:blip r:embed="rId2"/>
          <a:stretch/>
        </p:blipFill>
        <p:spPr>
          <a:xfrm>
            <a:off x="2220840" y="1484280"/>
            <a:ext cx="1389240" cy="468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6" descr=""/>
          <p:cNvPicPr/>
          <p:nvPr/>
        </p:nvPicPr>
        <p:blipFill>
          <a:blip r:embed="rId3"/>
          <a:stretch/>
        </p:blipFill>
        <p:spPr>
          <a:xfrm>
            <a:off x="2298600" y="2565360"/>
            <a:ext cx="1295640" cy="6192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7" descr=""/>
          <p:cNvPicPr/>
          <p:nvPr/>
        </p:nvPicPr>
        <p:blipFill>
          <a:blip r:embed="rId4"/>
          <a:stretch/>
        </p:blipFill>
        <p:spPr>
          <a:xfrm>
            <a:off x="2332080" y="1871640"/>
            <a:ext cx="1388880" cy="468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8" descr=""/>
          <p:cNvPicPr/>
          <p:nvPr/>
        </p:nvPicPr>
        <p:blipFill>
          <a:blip r:embed="rId5"/>
          <a:stretch/>
        </p:blipFill>
        <p:spPr>
          <a:xfrm>
            <a:off x="2343240" y="2868480"/>
            <a:ext cx="1111320" cy="3938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9" descr=""/>
          <p:cNvPicPr/>
          <p:nvPr/>
        </p:nvPicPr>
        <p:blipFill>
          <a:blip r:embed="rId6"/>
          <a:stretch/>
        </p:blipFill>
        <p:spPr>
          <a:xfrm>
            <a:off x="2071800" y="3570120"/>
            <a:ext cx="1522440" cy="3096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0" descr=""/>
          <p:cNvPicPr/>
          <p:nvPr/>
        </p:nvPicPr>
        <p:blipFill>
          <a:blip r:embed="rId7"/>
          <a:stretch/>
        </p:blipFill>
        <p:spPr>
          <a:xfrm>
            <a:off x="2209680" y="4282920"/>
            <a:ext cx="1341720" cy="263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1" descr=""/>
          <p:cNvPicPr/>
          <p:nvPr/>
        </p:nvPicPr>
        <p:blipFill>
          <a:blip r:embed="rId8"/>
          <a:stretch/>
        </p:blipFill>
        <p:spPr>
          <a:xfrm>
            <a:off x="2171880" y="4956120"/>
            <a:ext cx="1422360" cy="1260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2" descr=""/>
          <p:cNvPicPr/>
          <p:nvPr/>
        </p:nvPicPr>
        <p:blipFill>
          <a:blip r:embed="rId9"/>
          <a:stretch/>
        </p:blipFill>
        <p:spPr>
          <a:xfrm>
            <a:off x="2143080" y="5421240"/>
            <a:ext cx="1476360" cy="2444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5" descr=""/>
          <p:cNvPicPr/>
          <p:nvPr/>
        </p:nvPicPr>
        <p:blipFill>
          <a:blip r:embed="rId10"/>
          <a:stretch/>
        </p:blipFill>
        <p:spPr>
          <a:xfrm>
            <a:off x="2208240" y="6039000"/>
            <a:ext cx="1401840" cy="12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6" descr=""/>
          <p:cNvPicPr/>
          <p:nvPr/>
        </p:nvPicPr>
        <p:blipFill>
          <a:blip r:embed="rId11"/>
          <a:stretch/>
        </p:blipFill>
        <p:spPr>
          <a:xfrm>
            <a:off x="2075040" y="6426360"/>
            <a:ext cx="1535040" cy="2556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02"/>
          <p:cNvSpPr/>
          <p:nvPr/>
        </p:nvSpPr>
        <p:spPr>
          <a:xfrm>
            <a:off x="862560" y="5634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线的型式及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图片 2" descr=""/>
          <p:cNvPicPr/>
          <p:nvPr/>
        </p:nvPicPr>
        <p:blipFill>
          <a:blip r:embed="rId12"/>
          <a:stretch/>
        </p:blipFill>
        <p:spPr>
          <a:xfrm>
            <a:off x="2266920" y="1943280"/>
            <a:ext cx="1171440" cy="8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6"/>
          <p:cNvSpPr/>
          <p:nvPr/>
        </p:nvSpPr>
        <p:spPr>
          <a:xfrm>
            <a:off x="2050920" y="115920"/>
            <a:ext cx="53215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种图线应用示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图片 1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872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2"/>
          <p:cNvSpPr/>
          <p:nvPr/>
        </p:nvSpPr>
        <p:spPr>
          <a:xfrm>
            <a:off x="1018800" y="47628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线的宽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1"/>
          <p:cNvSpPr/>
          <p:nvPr/>
        </p:nvSpPr>
        <p:spPr>
          <a:xfrm>
            <a:off x="1042920" y="177336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在机械图样中采用粗、细两种线宽，粗细的比例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∶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例如，当粗实线、粗虚线、粗点画线的宽度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0.7 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时，与之对应的细实线、波浪线、双折线、细虚线、细点画线、细双点画线的宽度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0.35 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粗线宽度通常为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0.5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0.7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为了保证图样清晰，便于复制，图样上尽量避免出现宽度小于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0.18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的图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33"/>
          <p:cNvSpPr/>
          <p:nvPr/>
        </p:nvSpPr>
        <p:spPr>
          <a:xfrm>
            <a:off x="5083200" y="614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5083200" y="614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图片 31" descr="0112"/>
          <p:cNvPicPr/>
          <p:nvPr/>
        </p:nvPicPr>
        <p:blipFill>
          <a:blip r:embed="rId1"/>
          <a:stretch/>
        </p:blipFill>
        <p:spPr>
          <a:xfrm>
            <a:off x="177840" y="2639880"/>
            <a:ext cx="4187880" cy="2463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03" descr=""/>
          <p:cNvPicPr/>
          <p:nvPr/>
        </p:nvPicPr>
        <p:blipFill>
          <a:blip r:embed="rId2"/>
          <a:stretch/>
        </p:blipFill>
        <p:spPr>
          <a:xfrm>
            <a:off x="4529160" y="2905200"/>
            <a:ext cx="4259160" cy="202068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1"/>
          <p:cNvSpPr/>
          <p:nvPr/>
        </p:nvSpPr>
        <p:spPr>
          <a:xfrm>
            <a:off x="1084320" y="5373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交线的画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934"/>
          <p:cNvSpPr/>
          <p:nvPr/>
        </p:nvSpPr>
        <p:spPr>
          <a:xfrm>
            <a:off x="4633920" y="537372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圆的对称中心线的画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441360" y="11556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在同一图样中绘制粗实线、细实线、虚线、点画线及双点画线等图线时，应保持同类图线的宽度基本一致，线段长短大致相等，间隔大致相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02"/>
          <p:cNvSpPr/>
          <p:nvPr/>
        </p:nvSpPr>
        <p:spPr>
          <a:xfrm>
            <a:off x="913320" y="484200"/>
            <a:ext cx="27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线的型式及应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1" descr="上一页">
            <a:hlinkClick r:id="" action="ppaction://hlinkshowjump?jump=previousslide"/>
          </p:cNvPr>
          <p:cNvPicPr/>
          <p:nvPr/>
        </p:nvPicPr>
        <p:blipFill>
          <a:blip r:embed="rId1"/>
          <a:stretch/>
        </p:blipFill>
        <p:spPr>
          <a:xfrm>
            <a:off x="7086600" y="6400800"/>
            <a:ext cx="838080" cy="3128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5"/>
          <p:cNvSpPr/>
          <p:nvPr/>
        </p:nvSpPr>
        <p:spPr>
          <a:xfrm>
            <a:off x="539640" y="52704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本课程的学习目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155600" y="2133720"/>
            <a:ext cx="676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熟悉技术制图系列与机械制图系列国家标准的一些基本规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掌握铅笔、丁字尺、圆规等常用绘图工具的使用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掌握圆弧、圆内接正多边形、椭圆、斜度和锥度等几何作图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掌握草图的绘制方法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95"/>
          <p:cNvSpPr/>
          <p:nvPr/>
        </p:nvSpPr>
        <p:spPr>
          <a:xfrm>
            <a:off x="1283040" y="1119240"/>
            <a:ext cx="29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注尺寸的基本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文本框 1"/>
          <p:cNvSpPr/>
          <p:nvPr/>
        </p:nvSpPr>
        <p:spPr>
          <a:xfrm>
            <a:off x="1116000" y="2133720"/>
            <a:ext cx="67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在图样上标注的尺寸数值应以机件的真实大小为依据，与图形的大小及绘图的准确度无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图样中的尺寸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单位时，不需要标注计量单位的符号或名称。若采用其他单位，则必须注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图样中所注尺寸是该图样所示机件最后完工时的尺寸，否则，应另加说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机件的每一个尺寸一般只标注一次，并应标注在反映该结构最清晰的图形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3"/>
          <p:cNvSpPr/>
          <p:nvPr/>
        </p:nvSpPr>
        <p:spPr>
          <a:xfrm>
            <a:off x="755640" y="18900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、尺寸注法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B/T 4458.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102"/>
          <p:cNvSpPr/>
          <p:nvPr/>
        </p:nvSpPr>
        <p:spPr>
          <a:xfrm>
            <a:off x="930600" y="22536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尺寸的基本要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图片 1" descr=""/>
          <p:cNvPicPr/>
          <p:nvPr/>
        </p:nvPicPr>
        <p:blipFill>
          <a:blip r:embed="rId1"/>
          <a:stretch/>
        </p:blipFill>
        <p:spPr>
          <a:xfrm>
            <a:off x="6054840" y="907920"/>
            <a:ext cx="3062160" cy="2378160"/>
          </a:xfrm>
          <a:prstGeom prst="rect">
            <a:avLst/>
          </a:prstGeom>
          <a:ln w="0">
            <a:noFill/>
          </a:ln>
        </p:spPr>
      </p:pic>
      <p:sp>
        <p:nvSpPr>
          <p:cNvPr id="170" name="文本框 1"/>
          <p:cNvSpPr/>
          <p:nvPr/>
        </p:nvSpPr>
        <p:spPr>
          <a:xfrm>
            <a:off x="108000" y="812880"/>
            <a:ext cx="6054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尺寸界线。用细实线绘制，由图形的轮廓线、轴线或对称中心线处引出。通常与尺寸线垂直，并超出尺寸线终端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 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尺寸线。用细实线绘制。尺寸线必须单独画出，不能用图上任何其他图线代替，也不能与图线重合或在其延长线上，并应尽量避免尺寸线之间及尺寸线与尺寸界线相交。在标注线性尺寸时，尺寸线必须与所标注的线段平行，相同方向的各尺寸线的间距要均匀，间隔应大于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5mm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尺寸线终端。尺寸线终端使用箭头符号，箭头尖端与尺寸界线接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）尺寸数字。一般应注写在尺寸线的上方或尺寸线的中断处，位置不够时可以引出标注。尺寸数字不可被任何图线穿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图片 1" descr=""/>
          <p:cNvPicPr/>
          <p:nvPr/>
        </p:nvPicPr>
        <p:blipFill>
          <a:blip r:embed="rId2"/>
          <a:stretch/>
        </p:blipFill>
        <p:spPr>
          <a:xfrm>
            <a:off x="6381720" y="3840120"/>
            <a:ext cx="1998720" cy="2436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826920" y="1773360"/>
          <a:ext cx="7705800" cy="3821040"/>
        </p:xfrm>
        <a:graphic>
          <a:graphicData uri="http://schemas.openxmlformats.org/drawingml/2006/table">
            <a:tbl>
              <a:tblPr/>
              <a:tblGrid>
                <a:gridCol w="1284120"/>
                <a:gridCol w="1284480"/>
                <a:gridCol w="1284120"/>
                <a:gridCol w="1284480"/>
                <a:gridCol w="1488960"/>
                <a:gridCol w="1079640"/>
              </a:tblGrid>
              <a:tr h="78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写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写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符号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缩写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直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厚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沉孔或锪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半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正方形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埋头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球直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5°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倒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均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Q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球半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深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弧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3" name="图片 4" descr=""/>
          <p:cNvPicPr/>
          <p:nvPr/>
        </p:nvPicPr>
        <p:blipFill>
          <a:blip r:embed="rId1"/>
          <a:stretch/>
        </p:blipFill>
        <p:spPr>
          <a:xfrm>
            <a:off x="7740720" y="2781360"/>
            <a:ext cx="419040" cy="216000"/>
          </a:xfrm>
          <a:prstGeom prst="rect">
            <a:avLst/>
          </a:prstGeom>
          <a:ln w="0">
            <a:noFill/>
          </a:ln>
        </p:spPr>
      </p:pic>
      <p:sp>
        <p:nvSpPr>
          <p:cNvPr id="174" name="文本框 5"/>
          <p:cNvSpPr/>
          <p:nvPr/>
        </p:nvSpPr>
        <p:spPr>
          <a:xfrm>
            <a:off x="2843280" y="90792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常用的符号和缩写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395280" y="363600"/>
            <a:ext cx="63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常用尺寸的标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488880" y="1180440"/>
            <a:ext cx="365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线性尺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1095480" y="1770120"/>
            <a:ext cx="678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尺寸应尽可能避免在</a:t>
            </a: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30°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范围内标注，否则可以用引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对于非水平方向的尺寸，数字可以以水平注写在尺寸线的中断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图片 49" descr="b0204a"/>
          <p:cNvPicPr/>
          <p:nvPr/>
        </p:nvPicPr>
        <p:blipFill>
          <a:blip r:embed="rId1"/>
          <a:srcRect l="0" t="0" r="0" b="87073"/>
          <a:stretch/>
        </p:blipFill>
        <p:spPr>
          <a:xfrm>
            <a:off x="1773360" y="3573360"/>
            <a:ext cx="4733640" cy="1462320"/>
          </a:xfrm>
          <a:prstGeom prst="rect">
            <a:avLst/>
          </a:prstGeom>
          <a:ln w="0">
            <a:noFill/>
          </a:ln>
        </p:spPr>
      </p:pic>
      <p:pic>
        <p:nvPicPr>
          <p:cNvPr id="179" name="IM 56" descr=""/>
          <p:cNvPicPr/>
          <p:nvPr/>
        </p:nvPicPr>
        <p:blipFill>
          <a:blip r:embed="rId2"/>
          <a:stretch/>
        </p:blipFill>
        <p:spPr>
          <a:xfrm>
            <a:off x="2048040" y="5265720"/>
            <a:ext cx="4435200" cy="131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541440" y="520200"/>
            <a:ext cx="42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2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圆和圆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531720" y="2712600"/>
            <a:ext cx="460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标注圆或大于半圆的圆弧时，尺寸线通过圆心，以圆周为尺寸界线，尺寸数字前加注直径符号“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标注小于或等于半圆的圆弧时，尺寸线自圆心引向圆弧，只画一个箭头，尺寸数字前加注半径符号“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当圆弧的半径过大或在图纸范围内无法标注其圆心位置时，可以采用折线形式，若圆心位置不需要注明，则尺寸线可以只画靠近箭头的一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图片 50" descr="b0204a"/>
          <p:cNvPicPr/>
          <p:nvPr/>
        </p:nvPicPr>
        <p:blipFill>
          <a:blip r:embed="rId1"/>
          <a:srcRect l="12621" t="13456" r="9516" b="72961"/>
          <a:stretch/>
        </p:blipFill>
        <p:spPr>
          <a:xfrm>
            <a:off x="5292720" y="1139760"/>
            <a:ext cx="3040200" cy="1273320"/>
          </a:xfrm>
          <a:prstGeom prst="rect">
            <a:avLst/>
          </a:prstGeom>
          <a:ln w="0">
            <a:noFill/>
          </a:ln>
        </p:spPr>
      </p:pic>
      <p:pic>
        <p:nvPicPr>
          <p:cNvPr id="183" name="IM 64" descr=""/>
          <p:cNvPicPr/>
          <p:nvPr/>
        </p:nvPicPr>
        <p:blipFill>
          <a:blip r:embed="rId2"/>
          <a:stretch/>
        </p:blipFill>
        <p:spPr>
          <a:xfrm>
            <a:off x="5292720" y="2693880"/>
            <a:ext cx="3203640" cy="1712880"/>
          </a:xfrm>
          <a:prstGeom prst="rect">
            <a:avLst/>
          </a:prstGeom>
          <a:ln w="0">
            <a:noFill/>
          </a:ln>
        </p:spPr>
      </p:pic>
      <p:pic>
        <p:nvPicPr>
          <p:cNvPr id="184" name="IM 66" descr=""/>
          <p:cNvPicPr/>
          <p:nvPr/>
        </p:nvPicPr>
        <p:blipFill>
          <a:blip r:embed="rId3"/>
          <a:stretch/>
        </p:blipFill>
        <p:spPr>
          <a:xfrm>
            <a:off x="5133960" y="5027760"/>
            <a:ext cx="1144440" cy="12096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52" descr="b0204a"/>
          <p:cNvPicPr/>
          <p:nvPr/>
        </p:nvPicPr>
        <p:blipFill>
          <a:blip r:embed="rId4"/>
          <a:srcRect l="11066" t="47218" r="8012" b="41145"/>
          <a:stretch/>
        </p:blipFill>
        <p:spPr>
          <a:xfrm>
            <a:off x="6278400" y="5167440"/>
            <a:ext cx="2738520" cy="931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557280" y="722520"/>
            <a:ext cx="42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3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小尺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557280" y="17100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对于小尺寸，在没有足够的空间画箭头或注写数字时，箭头可以画在外面，或者用小圆点代替两个箭头；尺寸数字也可以采用旁注或引出标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IM 70" descr=""/>
          <p:cNvPicPr/>
          <p:nvPr/>
        </p:nvPicPr>
        <p:blipFill>
          <a:blip r:embed="rId1"/>
          <a:stretch/>
        </p:blipFill>
        <p:spPr>
          <a:xfrm>
            <a:off x="1763640" y="2852640"/>
            <a:ext cx="4969080" cy="3465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41440" y="520200"/>
            <a:ext cx="42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4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球面和角度尺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407880" y="1937880"/>
            <a:ext cx="38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标注球面的直径或半径时，应在尺寸数字前分别加注符号“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“</a:t>
            </a:r>
            <a:r>
              <a:rPr b="0" i="1" lang="en-US" sz="2400" spc="-1" strike="noStrike">
                <a:solidFill>
                  <a:srgbClr val="000000"/>
                </a:solidFill>
                <a:latin typeface="仿宋_GB2312"/>
              </a:rPr>
              <a:t>SR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角度尺寸的尺寸界线应沿径向引出，尺寸线画成圆弧，圆心是角的顶点。角度数字水平书写，一般注写在尺寸线的中断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IM 72" descr=""/>
          <p:cNvPicPr/>
          <p:nvPr/>
        </p:nvPicPr>
        <p:blipFill>
          <a:blip r:embed="rId1"/>
          <a:stretch/>
        </p:blipFill>
        <p:spPr>
          <a:xfrm>
            <a:off x="4572000" y="860400"/>
            <a:ext cx="4325760" cy="1495440"/>
          </a:xfrm>
          <a:prstGeom prst="rect">
            <a:avLst/>
          </a:prstGeom>
          <a:ln w="0">
            <a:noFill/>
          </a:ln>
        </p:spPr>
      </p:pic>
      <p:pic>
        <p:nvPicPr>
          <p:cNvPr id="192" name="IM 58" descr=""/>
          <p:cNvPicPr/>
          <p:nvPr/>
        </p:nvPicPr>
        <p:blipFill>
          <a:blip r:embed="rId2"/>
          <a:stretch/>
        </p:blipFill>
        <p:spPr>
          <a:xfrm>
            <a:off x="4564080" y="2725560"/>
            <a:ext cx="4340160" cy="1567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"/>
          <p:cNvSpPr/>
          <p:nvPr/>
        </p:nvSpPr>
        <p:spPr>
          <a:xfrm>
            <a:off x="541440" y="4341240"/>
            <a:ext cx="42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5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弦长和弧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407880" y="541440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尺寸界线应平行于弦的垂直平分线。当标注弧长尺寸时，尺寸线用圆弧，尺寸数字前方应加注符号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“⌒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IM 74" descr=""/>
          <p:cNvPicPr/>
          <p:nvPr/>
        </p:nvPicPr>
        <p:blipFill>
          <a:blip r:embed="rId3"/>
          <a:stretch/>
        </p:blipFill>
        <p:spPr>
          <a:xfrm>
            <a:off x="5257800" y="4770360"/>
            <a:ext cx="2954160" cy="162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423720" y="446400"/>
            <a:ext cx="63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6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只画一半或大于一半的对称机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765000" y="17830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尺寸线应略超过对称中心线或断裂处的边界线，仅在尺寸线的一端画出箭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585720" y="336816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7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对称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765000" y="49197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对称图形，应将尺寸标注为对称分布。当对称图形只画出一半或略大于一半时，尺寸线应略超过对称中心线或断裂处的边界线，此时仅在尺寸线的一端画出箭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图片 1" descr=""/>
          <p:cNvPicPr/>
          <p:nvPr/>
        </p:nvPicPr>
        <p:blipFill>
          <a:blip r:embed="rId1"/>
          <a:stretch/>
        </p:blipFill>
        <p:spPr>
          <a:xfrm>
            <a:off x="5848200" y="938160"/>
            <a:ext cx="2376720" cy="24415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58" descr="b020409"/>
          <p:cNvPicPr/>
          <p:nvPr/>
        </p:nvPicPr>
        <p:blipFill>
          <a:blip r:embed="rId2"/>
          <a:srcRect l="0" t="0" r="0" b="2444"/>
          <a:stretch/>
        </p:blipFill>
        <p:spPr>
          <a:xfrm>
            <a:off x="5530680" y="3857760"/>
            <a:ext cx="3011760" cy="23158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423720" y="446400"/>
            <a:ext cx="63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8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光滑过渡处的尺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423720" y="192132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在光滑过渡处，必须用细实线将轮廓线延长，并从它们的交点引出尺寸界线。尺寸界线如果垂直于尺寸线，则图线会很不清晰，因此允许倾斜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542880" y="338400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9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对称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423720" y="4664880"/>
            <a:ext cx="438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当剖面为正方形时，可在边长尺寸数字前加注符号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“□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或用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4×14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代替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“□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4”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。图中相交的两细实线是平面符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IM 78" descr=""/>
          <p:cNvPicPr/>
          <p:nvPr/>
        </p:nvPicPr>
        <p:blipFill>
          <a:blip r:embed="rId1"/>
          <a:stretch/>
        </p:blipFill>
        <p:spPr>
          <a:xfrm>
            <a:off x="5030640" y="731880"/>
            <a:ext cx="3888000" cy="1976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" descr=""/>
          <p:cNvPicPr/>
          <p:nvPr/>
        </p:nvPicPr>
        <p:blipFill>
          <a:blip r:embed="rId2"/>
          <a:stretch/>
        </p:blipFill>
        <p:spPr>
          <a:xfrm>
            <a:off x="5078520" y="4292640"/>
            <a:ext cx="3840120" cy="1230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423720" y="446400"/>
            <a:ext cx="63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10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斜度和锥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407880" y="165204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符号的方向应与斜度、锥度的方向一致。符号的线宽为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为字高，锥</a:t>
            </a:r>
            <a:r>
              <a:rPr b="0" lang="en-US" sz="2400" spc="-1" strike="noStrike">
                <a:solidFill>
                  <a:srgbClr val="000000"/>
                </a:solidFill>
                <a:latin typeface="仿宋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度也可注写在轴线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407880" y="3353760"/>
            <a:ext cx="675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</a:rPr>
              <a:t>(11)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</a:rPr>
              <a:t>尺寸数字无法避免被图线通过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403200" y="4464360"/>
            <a:ext cx="415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</a:rPr>
              <a:t>必须在注写尺寸数字处将图线断开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图片 4" descr=""/>
          <p:cNvPicPr/>
          <p:nvPr/>
        </p:nvPicPr>
        <p:blipFill>
          <a:blip r:embed="rId1"/>
          <a:stretch/>
        </p:blipFill>
        <p:spPr>
          <a:xfrm>
            <a:off x="4564080" y="1214280"/>
            <a:ext cx="1989000" cy="123048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3" descr=""/>
          <p:cNvPicPr/>
          <p:nvPr/>
        </p:nvPicPr>
        <p:blipFill>
          <a:blip r:embed="rId2"/>
          <a:stretch/>
        </p:blipFill>
        <p:spPr>
          <a:xfrm>
            <a:off x="6724800" y="938160"/>
            <a:ext cx="2136600" cy="18874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29104" descr=""/>
          <p:cNvPicPr/>
          <p:nvPr/>
        </p:nvPicPr>
        <p:blipFill>
          <a:blip r:embed="rId3"/>
          <a:stretch/>
        </p:blipFill>
        <p:spPr>
          <a:xfrm>
            <a:off x="4532400" y="4086360"/>
            <a:ext cx="2128680" cy="204768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" descr=""/>
          <p:cNvPicPr/>
          <p:nvPr/>
        </p:nvPicPr>
        <p:blipFill>
          <a:blip r:embed="rId4"/>
          <a:stretch/>
        </p:blipFill>
        <p:spPr>
          <a:xfrm>
            <a:off x="6772320" y="4341960"/>
            <a:ext cx="2108160" cy="1647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971640" y="2637000"/>
            <a:ext cx="770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务一  国家标准中的相关规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11280" y="1628640"/>
            <a:ext cx="7489800" cy="29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业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习题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1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-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预习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: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一任务二  绘图工具的使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项目一任务三  几何图形的绘制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4"/>
          <p:cNvSpPr/>
          <p:nvPr/>
        </p:nvSpPr>
        <p:spPr>
          <a:xfrm>
            <a:off x="3200400" y="2273400"/>
            <a:ext cx="295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  <a:ea typeface="华文新魏"/>
              </a:rPr>
              <a:t>本讲结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3759120" y="3414600"/>
            <a:ext cx="1644840" cy="1386000"/>
          </a:xfrm>
          <a:custGeom>
            <a:avLst/>
            <a:gdLst>
              <a:gd name="textAreaLeft" fmla="*/ 89640 w 1644840"/>
              <a:gd name="textAreaRight" fmla="*/ 1555200 w 1644840"/>
              <a:gd name="textAreaTop" fmla="*/ 89640 h 1386000"/>
              <a:gd name="textAreaBottom" fmla="*/ 1296360 h 1386000"/>
            </a:gdLst>
            <a:ahLst/>
            <a:rect l="textAreaLeft" t="textAreaTop" r="textAreaRight" b="textAreaBottom"/>
            <a:pathLst>
              <a:path w="25633" h="21600">
                <a:moveTo>
                  <a:pt x="0" y="0"/>
                </a:moveTo>
                <a:lnTo>
                  <a:pt x="25633" y="0"/>
                </a:lnTo>
                <a:lnTo>
                  <a:pt x="25633" y="21600"/>
                </a:lnTo>
                <a:lnTo>
                  <a:pt x="0" y="21600"/>
                </a:lnTo>
                <a:close/>
              </a:path>
              <a:path fill="lightenLess" w="25633" h="21600">
                <a:moveTo>
                  <a:pt x="0" y="0"/>
                </a:moveTo>
                <a:lnTo>
                  <a:pt x="25633" y="0"/>
                </a:lnTo>
                <a:lnTo>
                  <a:pt x="24233" y="1400"/>
                </a:lnTo>
                <a:lnTo>
                  <a:pt x="1400" y="1400"/>
                </a:lnTo>
                <a:close/>
              </a:path>
              <a:path fill="darken" w="25633" h="21600">
                <a:moveTo>
                  <a:pt x="25633" y="0"/>
                </a:moveTo>
                <a:lnTo>
                  <a:pt x="25633" y="21600"/>
                </a:lnTo>
                <a:lnTo>
                  <a:pt x="24233" y="20200"/>
                </a:lnTo>
                <a:lnTo>
                  <a:pt x="24233" y="1400"/>
                </a:lnTo>
                <a:close/>
              </a:path>
              <a:path fill="darkenLess" w="25633" h="21600">
                <a:moveTo>
                  <a:pt x="256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33" y="20200"/>
                </a:lnTo>
                <a:close/>
              </a:path>
              <a:path fill="lighten" w="256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33" h="21600">
                <a:moveTo>
                  <a:pt x="12816" y="3837"/>
                </a:moveTo>
                <a:lnTo>
                  <a:pt x="15393" y="6448"/>
                </a:ln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lnTo>
                  <a:pt x="19779" y="10800"/>
                </a:lnTo>
                <a:lnTo>
                  <a:pt x="18126" y="10800"/>
                </a:lnTo>
                <a:lnTo>
                  <a:pt x="18126" y="17989"/>
                </a:lnTo>
                <a:lnTo>
                  <a:pt x="7507" y="17989"/>
                </a:lnTo>
                <a:lnTo>
                  <a:pt x="7507" y="10800"/>
                </a:lnTo>
                <a:lnTo>
                  <a:pt x="5853" y="10800"/>
                </a:lnTo>
                <a:close/>
              </a:path>
              <a:path fill="darkenLess" w="25633" h="21600">
                <a:moveTo>
                  <a:pt x="15393" y="6448"/>
                </a:moveTo>
                <a:lnTo>
                  <a:pt x="15393" y="4707"/>
                </a:lnTo>
                <a:lnTo>
                  <a:pt x="17168" y="4707"/>
                </a:lnTo>
                <a:lnTo>
                  <a:pt x="17168" y="8224"/>
                </a:lnTo>
                <a:close/>
              </a:path>
              <a:path fill="darkenLess" w="25633" h="21600">
                <a:moveTo>
                  <a:pt x="11894" y="14299"/>
                </a:moveTo>
                <a:lnTo>
                  <a:pt x="13739" y="14299"/>
                </a:lnTo>
                <a:lnTo>
                  <a:pt x="13739" y="17989"/>
                </a:lnTo>
                <a:lnTo>
                  <a:pt x="18126" y="17989"/>
                </a:lnTo>
                <a:lnTo>
                  <a:pt x="18126" y="10800"/>
                </a:lnTo>
                <a:lnTo>
                  <a:pt x="7507" y="10800"/>
                </a:lnTo>
                <a:lnTo>
                  <a:pt x="7507" y="17989"/>
                </a:lnTo>
                <a:lnTo>
                  <a:pt x="11894" y="17989"/>
                </a:lnTo>
                <a:close/>
              </a:path>
            </a:pathLst>
          </a:cu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a77"/>
                </a:solidFill>
                <a:latin typeface="Arial"/>
                <a:ea typeface="黑体"/>
              </a:rPr>
              <a:t>回本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3608280" y="4707000"/>
            <a:ext cx="432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基本幅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2193840" y="115920"/>
            <a:ext cx="445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图纸幅面和标题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57"/>
          <p:cNvGrpSpPr/>
          <p:nvPr/>
        </p:nvGrpSpPr>
        <p:grpSpPr>
          <a:xfrm>
            <a:off x="966960" y="1936800"/>
            <a:ext cx="7516800" cy="2736720"/>
            <a:chOff x="966960" y="1936800"/>
            <a:chExt cx="7516800" cy="2736720"/>
          </a:xfrm>
        </p:grpSpPr>
        <p:sp>
          <p:nvSpPr>
            <p:cNvPr id="59" name="Rectangle 58"/>
            <p:cNvSpPr/>
            <p:nvPr/>
          </p:nvSpPr>
          <p:spPr>
            <a:xfrm>
              <a:off x="966960" y="1936800"/>
              <a:ext cx="7516800" cy="27367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59"/>
            <p:cNvSpPr/>
            <p:nvPr/>
          </p:nvSpPr>
          <p:spPr>
            <a:xfrm>
              <a:off x="1251360" y="219672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60"/>
            <p:cNvSpPr/>
            <p:nvPr/>
          </p:nvSpPr>
          <p:spPr>
            <a:xfrm>
              <a:off x="1251360" y="2196720"/>
              <a:ext cx="0" cy="2196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61"/>
            <p:cNvSpPr/>
            <p:nvPr/>
          </p:nvSpPr>
          <p:spPr>
            <a:xfrm>
              <a:off x="1251360" y="439380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62"/>
            <p:cNvSpPr/>
            <p:nvPr/>
          </p:nvSpPr>
          <p:spPr>
            <a:xfrm>
              <a:off x="1251360" y="262404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63"/>
            <p:cNvSpPr/>
            <p:nvPr/>
          </p:nvSpPr>
          <p:spPr>
            <a:xfrm>
              <a:off x="1251360" y="305244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64"/>
            <p:cNvSpPr/>
            <p:nvPr/>
          </p:nvSpPr>
          <p:spPr>
            <a:xfrm>
              <a:off x="1251360" y="347940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5"/>
            <p:cNvSpPr/>
            <p:nvPr/>
          </p:nvSpPr>
          <p:spPr>
            <a:xfrm>
              <a:off x="1251360" y="3968640"/>
              <a:ext cx="6867360" cy="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66"/>
            <p:cNvSpPr/>
            <p:nvPr/>
          </p:nvSpPr>
          <p:spPr>
            <a:xfrm>
              <a:off x="1550880" y="2217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00"/>
                  </a:solidFill>
                  <a:latin typeface="仿宋_GB2312"/>
                </a:rPr>
                <a:t>幅面代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67"/>
            <p:cNvSpPr/>
            <p:nvPr/>
          </p:nvSpPr>
          <p:spPr>
            <a:xfrm>
              <a:off x="2600640" y="2196720"/>
              <a:ext cx="0" cy="2196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68"/>
            <p:cNvSpPr/>
            <p:nvPr/>
          </p:nvSpPr>
          <p:spPr>
            <a:xfrm>
              <a:off x="2570400" y="2717640"/>
              <a:ext cx="134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841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118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69"/>
            <p:cNvSpPr/>
            <p:nvPr/>
          </p:nvSpPr>
          <p:spPr>
            <a:xfrm>
              <a:off x="3813480" y="2196720"/>
              <a:ext cx="0" cy="85536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70"/>
            <p:cNvSpPr/>
            <p:nvPr/>
          </p:nvSpPr>
          <p:spPr>
            <a:xfrm>
              <a:off x="3765600" y="27176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594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84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71"/>
            <p:cNvSpPr/>
            <p:nvPr/>
          </p:nvSpPr>
          <p:spPr>
            <a:xfrm>
              <a:off x="4845240" y="2196720"/>
              <a:ext cx="0" cy="12823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72"/>
            <p:cNvSpPr/>
            <p:nvPr/>
          </p:nvSpPr>
          <p:spPr>
            <a:xfrm>
              <a:off x="4824360" y="27176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420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59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73"/>
            <p:cNvSpPr/>
            <p:nvPr/>
          </p:nvSpPr>
          <p:spPr>
            <a:xfrm>
              <a:off x="5897880" y="2196720"/>
              <a:ext cx="0" cy="8380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74"/>
            <p:cNvSpPr/>
            <p:nvPr/>
          </p:nvSpPr>
          <p:spPr>
            <a:xfrm>
              <a:off x="5881680" y="2717640"/>
              <a:ext cx="119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297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4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75"/>
            <p:cNvSpPr/>
            <p:nvPr/>
          </p:nvSpPr>
          <p:spPr>
            <a:xfrm>
              <a:off x="6999480" y="2195280"/>
              <a:ext cx="0" cy="837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76"/>
            <p:cNvSpPr/>
            <p:nvPr/>
          </p:nvSpPr>
          <p:spPr>
            <a:xfrm>
              <a:off x="6998400" y="2669760"/>
              <a:ext cx="122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210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1" lang="en-US" sz="2000" spc="-1" strike="noStrike">
                  <a:solidFill>
                    <a:srgbClr val="000000"/>
                  </a:solidFill>
                  <a:latin typeface="仿宋_GB2312"/>
                </a:rPr>
                <a:t>29</a:t>
              </a: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77"/>
            <p:cNvSpPr/>
            <p:nvPr/>
          </p:nvSpPr>
          <p:spPr>
            <a:xfrm>
              <a:off x="8131320" y="2196720"/>
              <a:ext cx="0" cy="219672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78"/>
            <p:cNvSpPr/>
            <p:nvPr/>
          </p:nvSpPr>
          <p:spPr>
            <a:xfrm>
              <a:off x="1580040" y="26920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仿宋_GB2312"/>
                </a:rPr>
                <a:t>B×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79"/>
            <p:cNvSpPr/>
            <p:nvPr/>
          </p:nvSpPr>
          <p:spPr>
            <a:xfrm>
              <a:off x="1715040" y="30780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仿宋_GB2312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0"/>
            <p:cNvSpPr/>
            <p:nvPr/>
          </p:nvSpPr>
          <p:spPr>
            <a:xfrm>
              <a:off x="1715040" y="35622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仿宋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81"/>
            <p:cNvSpPr/>
            <p:nvPr/>
          </p:nvSpPr>
          <p:spPr>
            <a:xfrm>
              <a:off x="1729080" y="39794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6633"/>
                  </a:solidFill>
                  <a:latin typeface="仿宋_GB2312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82"/>
            <p:cNvSpPr/>
            <p:nvPr/>
          </p:nvSpPr>
          <p:spPr>
            <a:xfrm>
              <a:off x="5839200" y="3479400"/>
              <a:ext cx="0" cy="488880"/>
            </a:xfrm>
            <a:prstGeom prst="line">
              <a:avLst/>
            </a:prstGeom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83"/>
            <p:cNvSpPr/>
            <p:nvPr/>
          </p:nvSpPr>
          <p:spPr>
            <a:xfrm>
              <a:off x="3467160" y="30780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84"/>
            <p:cNvSpPr/>
            <p:nvPr/>
          </p:nvSpPr>
          <p:spPr>
            <a:xfrm>
              <a:off x="6264360" y="30650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5"/>
            <p:cNvSpPr/>
            <p:nvPr/>
          </p:nvSpPr>
          <p:spPr>
            <a:xfrm>
              <a:off x="4014720" y="35622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86"/>
            <p:cNvSpPr/>
            <p:nvPr/>
          </p:nvSpPr>
          <p:spPr>
            <a:xfrm>
              <a:off x="6828120" y="35463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7"/>
            <p:cNvSpPr/>
            <p:nvPr/>
          </p:nvSpPr>
          <p:spPr>
            <a:xfrm>
              <a:off x="5075280" y="3968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仿宋_GB2312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8"/>
            <p:cNvSpPr/>
            <p:nvPr/>
          </p:nvSpPr>
          <p:spPr>
            <a:xfrm>
              <a:off x="2987640" y="221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仿宋_GB2312"/>
                </a:rPr>
                <a:t>A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9"/>
            <p:cNvSpPr/>
            <p:nvPr/>
          </p:nvSpPr>
          <p:spPr>
            <a:xfrm>
              <a:off x="4149720" y="221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仿宋_GB2312"/>
                </a:rPr>
                <a:t>A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90"/>
            <p:cNvSpPr/>
            <p:nvPr/>
          </p:nvSpPr>
          <p:spPr>
            <a:xfrm>
              <a:off x="5112000" y="221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仿宋_GB2312"/>
                </a:rPr>
                <a:t>A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6083280" y="2204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仿宋_GB2312"/>
                </a:rPr>
                <a:t>A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2"/>
            <p:cNvSpPr/>
            <p:nvPr/>
          </p:nvSpPr>
          <p:spPr>
            <a:xfrm>
              <a:off x="7267680" y="22176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仿宋_GB2312"/>
                </a:rPr>
                <a:t>A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Text Box 2"/>
          <p:cNvSpPr/>
          <p:nvPr/>
        </p:nvSpPr>
        <p:spPr>
          <a:xfrm>
            <a:off x="385920" y="852480"/>
            <a:ext cx="63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图纸幅面和图框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37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基本幅面的尺寸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图片 1" descr=""/>
          <p:cNvPicPr/>
          <p:nvPr/>
        </p:nvPicPr>
        <p:blipFill>
          <a:blip r:embed="rId1"/>
          <a:stretch/>
        </p:blipFill>
        <p:spPr>
          <a:xfrm>
            <a:off x="2016000" y="301680"/>
            <a:ext cx="5251680" cy="5072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537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图框格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196360" y="485136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660360" y="485136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图片 2" descr=""/>
          <p:cNvPicPr/>
          <p:nvPr/>
        </p:nvPicPr>
        <p:blipFill>
          <a:blip r:embed="rId1"/>
          <a:stretch/>
        </p:blipFill>
        <p:spPr>
          <a:xfrm>
            <a:off x="176040" y="839880"/>
            <a:ext cx="8731440" cy="391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9"/>
          <p:cNvSpPr/>
          <p:nvPr/>
        </p:nvSpPr>
        <p:spPr>
          <a:xfrm>
            <a:off x="2716920" y="464976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7109640" y="4611600"/>
            <a:ext cx="63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8"/>
          <p:cNvSpPr/>
          <p:nvPr/>
        </p:nvSpPr>
        <p:spPr>
          <a:xfrm>
            <a:off x="755640" y="53737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图框格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" descr=""/>
          <p:cNvPicPr/>
          <p:nvPr/>
        </p:nvPicPr>
        <p:blipFill>
          <a:blip r:embed="rId1"/>
          <a:stretch/>
        </p:blipFill>
        <p:spPr>
          <a:xfrm>
            <a:off x="250920" y="625320"/>
            <a:ext cx="8481960" cy="402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837240" y="508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标题栏的格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图片 1" descr=""/>
          <p:cNvPicPr/>
          <p:nvPr/>
        </p:nvPicPr>
        <p:blipFill>
          <a:blip r:embed="rId1"/>
          <a:stretch/>
        </p:blipFill>
        <p:spPr>
          <a:xfrm>
            <a:off x="539640" y="1411200"/>
            <a:ext cx="8008920" cy="3322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2"/>
          <p:cNvSpPr/>
          <p:nvPr/>
        </p:nvSpPr>
        <p:spPr>
          <a:xfrm>
            <a:off x="361800" y="471600"/>
            <a:ext cx="63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标题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6334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</a:rPr>
              <a:t>简化的标题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图片 1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551800" cy="30067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"/>
          <p:cNvSpPr/>
          <p:nvPr/>
        </p:nvSpPr>
        <p:spPr>
          <a:xfrm>
            <a:off x="361800" y="471600"/>
            <a:ext cx="639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附加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5T00:29:19Z</dcterms:created>
  <dc:creator>zhangjing</dc:creator>
  <dc:description/>
  <dc:language>en-US</dc:language>
  <cp:lastModifiedBy>科学虫</cp:lastModifiedBy>
  <cp:lastPrinted>2000-06-05T15:03:41Z</cp:lastPrinted>
  <dcterms:modified xsi:type="dcterms:W3CDTF">2025-10-15T06:01:28Z</dcterms:modified>
  <cp:revision>821</cp:revision>
  <dc:subject/>
  <dc:title>没有幻灯片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62509EDA61134D6CB6B3D5266D41A6B2_12</vt:lpwstr>
  </property>
  <property fmtid="{D5CDD505-2E9C-101B-9397-08002B2CF9AE}" pid="3" name="KSOProductBuildVer">
    <vt:lpwstr>2052-12.1.0.18276</vt:lpwstr>
  </property>
</Properties>
</file>